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EB68-88E3-4D3B-A0CA-012BD24DE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6E65-B397-4C58-A9C6-89D308AEB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F62C-32CA-45D5-AE16-90A7A60E4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013B-6F77-4595-8713-32E9E5E4C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E7CC-BDE3-4952-97FC-C31AD9A2D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E2DF-92E8-4AD4-9469-E1EFCF722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1484-3F1C-4B62-9714-F14945D4F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926B-18DF-4BE5-B6B9-1B06937FF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8BF9-E08A-46A9-B19D-BFA9321C6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9C33-EAC4-4E31-BA8F-074B732A0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619D-C63E-484A-A537-C8C3F55AD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F4C3-A3FD-401C-B1BD-DB17BFCE4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9B9B-EE0D-49DB-AF1C-B5DCAF02F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967E-8481-4EA5-926B-4DB92BB11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47DB-C448-4A42-B04E-1FC80D075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7234-CAFF-408C-B721-4DF0CD38E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205E-B33D-452D-B563-7D1D777E5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87F6-973A-4487-8C37-C198A7719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12C0-93DC-4CE0-8629-97A577BC2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2A85-4684-4BA5-8222-2BE32C5D2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3998-75B1-4489-8A9A-31FAB498A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8D58-C9B7-4F45-AD80-9C2E0519F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5DDC-E3F2-4925-9807-D72E67D15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9936-BD0A-42E3-9E38-7BA3360E9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C1F9-7041-478F-9AA9-6A37F8D6D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2673-44E4-4860-A0F5-C91335F47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2546-5842-43D4-84D0-46B21ADC5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77DC-A16C-4A32-9CFE-93112A5F2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19DB-98A8-48C7-8604-E9CC290E8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1BB6-47A0-4371-8F2C-ED5FF5A51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EA77-863D-457A-BCA4-E38D0C3DF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2C01-414F-4889-B3B4-B6D8460E0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5968-8958-493E-867C-D09587C92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3A1E-F779-442E-AA14-6E114A456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91B3-9B35-487D-9BCB-1F02A0DF6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86BA-86A0-49CB-BA63-C39475DBC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CEC9-D1F2-490C-B20B-2BA452155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AE2F-C710-4EBC-B003-D874ADF1F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398A-625A-4493-B2F9-227557856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1366-36F5-4DA8-AAD6-6C5585794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3DB3-2072-454C-B76B-B766FA1B0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D9BA-4C18-49AA-BED7-73C4DB97B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BB3-48F9-45E4-91E6-CB09A93E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5DA0-206A-4AAA-8E28-D765A6F6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B027-80FF-40AB-8513-27B70906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F420-D870-47AB-A465-E157E2E2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CFA2-0B4C-4218-850C-E3708FDC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A48-AF6A-4D79-946B-AF2748D4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E297-2681-43C5-847D-4015BA61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DABC-9A27-48B4-9E3C-3D1284AB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37D4-907C-4301-BFA0-C8169EDF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111-99C1-46E7-8694-C917214A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1248-5A57-42CA-8F9F-30653B28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63D1-C206-4CDF-BE71-0DF7DCAB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EA15-1ED9-4B8E-B7A4-7AE6459C79A5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422280" y="2446200"/>
            <a:ext cx="1441440" cy="900360"/>
          </a:xfrm>
          <a:custGeom>
            <a:avLst/>
            <a:gdLst>
              <a:gd name="textAreaLeft" fmla="*/ 58320 w 1441440"/>
              <a:gd name="textAreaRight" fmla="*/ 1383120 w 1441440"/>
              <a:gd name="textAreaTop" fmla="*/ 58320 h 900360"/>
              <a:gd name="textAreaBottom" fmla="*/ 842040 h 900360"/>
            </a:gdLst>
            <a:ahLst/>
            <a:rect l="textAreaLeft" t="textAreaTop" r="textAreaRight" b="textAreaBottom"/>
            <a:pathLst>
              <a:path w="34576" h="21600">
                <a:moveTo>
                  <a:pt x="0" y="0"/>
                </a:moveTo>
                <a:lnTo>
                  <a:pt x="34576" y="0"/>
                </a:lnTo>
                <a:lnTo>
                  <a:pt x="34576" y="21600"/>
                </a:lnTo>
                <a:lnTo>
                  <a:pt x="0" y="21600"/>
                </a:lnTo>
                <a:close/>
              </a:path>
              <a:path fill="lightenLess" w="34576" h="21600">
                <a:moveTo>
                  <a:pt x="0" y="0"/>
                </a:moveTo>
                <a:lnTo>
                  <a:pt x="34576" y="0"/>
                </a:lnTo>
                <a:lnTo>
                  <a:pt x="33176" y="1400"/>
                </a:lnTo>
                <a:lnTo>
                  <a:pt x="1400" y="1400"/>
                </a:lnTo>
                <a:close/>
              </a:path>
              <a:path fill="darken" w="34576" h="21600">
                <a:moveTo>
                  <a:pt x="34576" y="0"/>
                </a:moveTo>
                <a:lnTo>
                  <a:pt x="34576" y="21600"/>
                </a:lnTo>
                <a:lnTo>
                  <a:pt x="33176" y="20200"/>
                </a:lnTo>
                <a:lnTo>
                  <a:pt x="33176" y="1400"/>
                </a:lnTo>
                <a:close/>
              </a:path>
              <a:path fill="darkenLess" w="34576" h="21600">
                <a:moveTo>
                  <a:pt x="34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6" y="20200"/>
                </a:lnTo>
                <a:close/>
              </a:path>
              <a:path fill="lighten" w="34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422280" y="3494160"/>
            <a:ext cx="1441440" cy="900000"/>
          </a:xfrm>
          <a:custGeom>
            <a:avLst/>
            <a:gdLst>
              <a:gd name="textAreaLeft" fmla="*/ 58320 w 1441440"/>
              <a:gd name="textAreaRight" fmla="*/ 1383120 w 14414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34589" h="21600">
                <a:moveTo>
                  <a:pt x="0" y="0"/>
                </a:moveTo>
                <a:lnTo>
                  <a:pt x="34589" y="0"/>
                </a:lnTo>
                <a:lnTo>
                  <a:pt x="34589" y="21600"/>
                </a:lnTo>
                <a:lnTo>
                  <a:pt x="0" y="21600"/>
                </a:lnTo>
                <a:close/>
              </a:path>
              <a:path fill="lightenLess" w="34589" h="21600">
                <a:moveTo>
                  <a:pt x="0" y="0"/>
                </a:moveTo>
                <a:lnTo>
                  <a:pt x="34589" y="0"/>
                </a:lnTo>
                <a:lnTo>
                  <a:pt x="33189" y="1400"/>
                </a:lnTo>
                <a:lnTo>
                  <a:pt x="1400" y="1400"/>
                </a:lnTo>
                <a:close/>
              </a:path>
              <a:path fill="darken" w="34589" h="21600">
                <a:moveTo>
                  <a:pt x="34589" y="0"/>
                </a:moveTo>
                <a:lnTo>
                  <a:pt x="34589" y="21600"/>
                </a:lnTo>
                <a:lnTo>
                  <a:pt x="33189" y="20200"/>
                </a:lnTo>
                <a:lnTo>
                  <a:pt x="33189" y="1400"/>
                </a:lnTo>
                <a:close/>
              </a:path>
              <a:path fill="darkenLess" w="34589" h="21600">
                <a:moveTo>
                  <a:pt x="345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89" y="20200"/>
                </a:lnTo>
                <a:close/>
              </a:path>
              <a:path fill="lighten" w="345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422280" y="4541760"/>
            <a:ext cx="1441440" cy="900360"/>
          </a:xfrm>
          <a:custGeom>
            <a:avLst/>
            <a:gdLst>
              <a:gd name="textAreaLeft" fmla="*/ 58320 w 1441440"/>
              <a:gd name="textAreaRight" fmla="*/ 1383120 w 1441440"/>
              <a:gd name="textAreaTop" fmla="*/ 58320 h 900360"/>
              <a:gd name="textAreaBottom" fmla="*/ 842040 h 900360"/>
            </a:gdLst>
            <a:ahLst/>
            <a:rect l="textAreaLeft" t="textAreaTop" r="textAreaRight" b="textAreaBottom"/>
            <a:pathLst>
              <a:path w="34576" h="21600">
                <a:moveTo>
                  <a:pt x="0" y="0"/>
                </a:moveTo>
                <a:lnTo>
                  <a:pt x="34576" y="0"/>
                </a:lnTo>
                <a:lnTo>
                  <a:pt x="34576" y="21600"/>
                </a:lnTo>
                <a:lnTo>
                  <a:pt x="0" y="21600"/>
                </a:lnTo>
                <a:close/>
              </a:path>
              <a:path fill="lightenLess" w="34576" h="21600">
                <a:moveTo>
                  <a:pt x="0" y="0"/>
                </a:moveTo>
                <a:lnTo>
                  <a:pt x="34576" y="0"/>
                </a:lnTo>
                <a:lnTo>
                  <a:pt x="33176" y="1400"/>
                </a:lnTo>
                <a:lnTo>
                  <a:pt x="1400" y="1400"/>
                </a:lnTo>
                <a:close/>
              </a:path>
              <a:path fill="darken" w="34576" h="21600">
                <a:moveTo>
                  <a:pt x="34576" y="0"/>
                </a:moveTo>
                <a:lnTo>
                  <a:pt x="34576" y="21600"/>
                </a:lnTo>
                <a:lnTo>
                  <a:pt x="33176" y="20200"/>
                </a:lnTo>
                <a:lnTo>
                  <a:pt x="33176" y="1400"/>
                </a:lnTo>
                <a:close/>
              </a:path>
              <a:path fill="darkenLess" w="34576" h="21600">
                <a:moveTo>
                  <a:pt x="34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6" y="20200"/>
                </a:lnTo>
                <a:close/>
              </a:path>
              <a:path fill="lighten" w="34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422280" y="5589720"/>
            <a:ext cx="1441440" cy="900000"/>
          </a:xfrm>
          <a:custGeom>
            <a:avLst/>
            <a:gdLst>
              <a:gd name="textAreaLeft" fmla="*/ 58320 w 1441440"/>
              <a:gd name="textAreaRight" fmla="*/ 1383120 w 14414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34589" h="21600">
                <a:moveTo>
                  <a:pt x="0" y="0"/>
                </a:moveTo>
                <a:lnTo>
                  <a:pt x="34589" y="0"/>
                </a:lnTo>
                <a:lnTo>
                  <a:pt x="34589" y="21600"/>
                </a:lnTo>
                <a:lnTo>
                  <a:pt x="0" y="21600"/>
                </a:lnTo>
                <a:close/>
              </a:path>
              <a:path fill="lightenLess" w="34589" h="21600">
                <a:moveTo>
                  <a:pt x="0" y="0"/>
                </a:moveTo>
                <a:lnTo>
                  <a:pt x="34589" y="0"/>
                </a:lnTo>
                <a:lnTo>
                  <a:pt x="33189" y="1400"/>
                </a:lnTo>
                <a:lnTo>
                  <a:pt x="1400" y="1400"/>
                </a:lnTo>
                <a:close/>
              </a:path>
              <a:path fill="darken" w="34589" h="21600">
                <a:moveTo>
                  <a:pt x="34589" y="0"/>
                </a:moveTo>
                <a:lnTo>
                  <a:pt x="34589" y="21600"/>
                </a:lnTo>
                <a:lnTo>
                  <a:pt x="33189" y="20200"/>
                </a:lnTo>
                <a:lnTo>
                  <a:pt x="33189" y="1400"/>
                </a:lnTo>
                <a:close/>
              </a:path>
              <a:path fill="darkenLess" w="34589" h="21600">
                <a:moveTo>
                  <a:pt x="345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89" y="20200"/>
                </a:lnTo>
                <a:close/>
              </a:path>
              <a:path fill="lighten" w="345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2705040" y="1398600"/>
            <a:ext cx="1440000" cy="900000"/>
          </a:xfrm>
          <a:custGeom>
            <a:avLst/>
            <a:gdLst>
              <a:gd name="textAreaLeft" fmla="*/ 58320 w 1440000"/>
              <a:gd name="textAreaRight" fmla="*/ 1381680 w 144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34555" h="21600">
                <a:moveTo>
                  <a:pt x="0" y="0"/>
                </a:moveTo>
                <a:lnTo>
                  <a:pt x="34555" y="0"/>
                </a:lnTo>
                <a:lnTo>
                  <a:pt x="34555" y="21600"/>
                </a:lnTo>
                <a:lnTo>
                  <a:pt x="0" y="21600"/>
                </a:lnTo>
                <a:close/>
              </a:path>
              <a:path fill="lightenLess" w="34555" h="21600">
                <a:moveTo>
                  <a:pt x="0" y="0"/>
                </a:moveTo>
                <a:lnTo>
                  <a:pt x="34555" y="0"/>
                </a:lnTo>
                <a:lnTo>
                  <a:pt x="33155" y="1400"/>
                </a:lnTo>
                <a:lnTo>
                  <a:pt x="1400" y="1400"/>
                </a:lnTo>
                <a:close/>
              </a:path>
              <a:path fill="darken" w="34555" h="21600">
                <a:moveTo>
                  <a:pt x="34555" y="0"/>
                </a:moveTo>
                <a:lnTo>
                  <a:pt x="34555" y="21600"/>
                </a:lnTo>
                <a:lnTo>
                  <a:pt x="33155" y="20200"/>
                </a:lnTo>
                <a:lnTo>
                  <a:pt x="33155" y="1400"/>
                </a:lnTo>
                <a:close/>
              </a:path>
              <a:path fill="darkenLess" w="34555" h="21600">
                <a:moveTo>
                  <a:pt x="34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5" y="20200"/>
                </a:lnTo>
                <a:close/>
              </a:path>
              <a:path fill="lighten" w="34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2705040" y="2446200"/>
            <a:ext cx="1440000" cy="900360"/>
          </a:xfrm>
          <a:custGeom>
            <a:avLst/>
            <a:gdLst>
              <a:gd name="textAreaLeft" fmla="*/ 58320 w 1440000"/>
              <a:gd name="textAreaRight" fmla="*/ 1381680 w 1440000"/>
              <a:gd name="textAreaTop" fmla="*/ 58320 h 900360"/>
              <a:gd name="textAreaBottom" fmla="*/ 842040 h 900360"/>
            </a:gdLst>
            <a:ahLst/>
            <a:rect l="textAreaLeft" t="textAreaTop" r="textAreaRight" b="textAreaBottom"/>
            <a:pathLst>
              <a:path w="34541" h="21600">
                <a:moveTo>
                  <a:pt x="0" y="0"/>
                </a:moveTo>
                <a:lnTo>
                  <a:pt x="34541" y="0"/>
                </a:lnTo>
                <a:lnTo>
                  <a:pt x="34541" y="21600"/>
                </a:lnTo>
                <a:lnTo>
                  <a:pt x="0" y="21600"/>
                </a:lnTo>
                <a:close/>
              </a:path>
              <a:path fill="lightenLess" w="34541" h="21600">
                <a:moveTo>
                  <a:pt x="0" y="0"/>
                </a:moveTo>
                <a:lnTo>
                  <a:pt x="34541" y="0"/>
                </a:lnTo>
                <a:lnTo>
                  <a:pt x="33141" y="1400"/>
                </a:lnTo>
                <a:lnTo>
                  <a:pt x="1400" y="1400"/>
                </a:lnTo>
                <a:close/>
              </a:path>
              <a:path fill="darken" w="34541" h="21600">
                <a:moveTo>
                  <a:pt x="34541" y="0"/>
                </a:moveTo>
                <a:lnTo>
                  <a:pt x="34541" y="21600"/>
                </a:lnTo>
                <a:lnTo>
                  <a:pt x="33141" y="20200"/>
                </a:lnTo>
                <a:lnTo>
                  <a:pt x="33141" y="1400"/>
                </a:lnTo>
                <a:close/>
              </a:path>
              <a:path fill="darkenLess" w="34541" h="21600">
                <a:moveTo>
                  <a:pt x="34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1" y="20200"/>
                </a:lnTo>
                <a:close/>
              </a:path>
              <a:path fill="lighten" w="34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2705040" y="3494160"/>
            <a:ext cx="1440000" cy="900000"/>
          </a:xfrm>
          <a:custGeom>
            <a:avLst/>
            <a:gdLst>
              <a:gd name="textAreaLeft" fmla="*/ 58320 w 1440000"/>
              <a:gd name="textAreaRight" fmla="*/ 1381680 w 144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34555" h="21600">
                <a:moveTo>
                  <a:pt x="0" y="0"/>
                </a:moveTo>
                <a:lnTo>
                  <a:pt x="34555" y="0"/>
                </a:lnTo>
                <a:lnTo>
                  <a:pt x="34555" y="21600"/>
                </a:lnTo>
                <a:lnTo>
                  <a:pt x="0" y="21600"/>
                </a:lnTo>
                <a:close/>
              </a:path>
              <a:path fill="lightenLess" w="34555" h="21600">
                <a:moveTo>
                  <a:pt x="0" y="0"/>
                </a:moveTo>
                <a:lnTo>
                  <a:pt x="34555" y="0"/>
                </a:lnTo>
                <a:lnTo>
                  <a:pt x="33155" y="1400"/>
                </a:lnTo>
                <a:lnTo>
                  <a:pt x="1400" y="1400"/>
                </a:lnTo>
                <a:close/>
              </a:path>
              <a:path fill="darken" w="34555" h="21600">
                <a:moveTo>
                  <a:pt x="34555" y="0"/>
                </a:moveTo>
                <a:lnTo>
                  <a:pt x="34555" y="21600"/>
                </a:lnTo>
                <a:lnTo>
                  <a:pt x="33155" y="20200"/>
                </a:lnTo>
                <a:lnTo>
                  <a:pt x="33155" y="1400"/>
                </a:lnTo>
                <a:close/>
              </a:path>
              <a:path fill="darkenLess" w="34555" h="21600">
                <a:moveTo>
                  <a:pt x="34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5" y="20200"/>
                </a:lnTo>
                <a:close/>
              </a:path>
              <a:path fill="lighten" w="34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2705040" y="4541760"/>
            <a:ext cx="1440000" cy="900360"/>
          </a:xfrm>
          <a:custGeom>
            <a:avLst/>
            <a:gdLst>
              <a:gd name="textAreaLeft" fmla="*/ 58320 w 1440000"/>
              <a:gd name="textAreaRight" fmla="*/ 1381680 w 1440000"/>
              <a:gd name="textAreaTop" fmla="*/ 58320 h 900360"/>
              <a:gd name="textAreaBottom" fmla="*/ 842040 h 900360"/>
            </a:gdLst>
            <a:ahLst/>
            <a:rect l="textAreaLeft" t="textAreaTop" r="textAreaRight" b="textAreaBottom"/>
            <a:pathLst>
              <a:path w="34541" h="21600">
                <a:moveTo>
                  <a:pt x="0" y="0"/>
                </a:moveTo>
                <a:lnTo>
                  <a:pt x="34541" y="0"/>
                </a:lnTo>
                <a:lnTo>
                  <a:pt x="34541" y="21600"/>
                </a:lnTo>
                <a:lnTo>
                  <a:pt x="0" y="21600"/>
                </a:lnTo>
                <a:close/>
              </a:path>
              <a:path fill="lightenLess" w="34541" h="21600">
                <a:moveTo>
                  <a:pt x="0" y="0"/>
                </a:moveTo>
                <a:lnTo>
                  <a:pt x="34541" y="0"/>
                </a:lnTo>
                <a:lnTo>
                  <a:pt x="33141" y="1400"/>
                </a:lnTo>
                <a:lnTo>
                  <a:pt x="1400" y="1400"/>
                </a:lnTo>
                <a:close/>
              </a:path>
              <a:path fill="darken" w="34541" h="21600">
                <a:moveTo>
                  <a:pt x="34541" y="0"/>
                </a:moveTo>
                <a:lnTo>
                  <a:pt x="34541" y="21600"/>
                </a:lnTo>
                <a:lnTo>
                  <a:pt x="33141" y="20200"/>
                </a:lnTo>
                <a:lnTo>
                  <a:pt x="33141" y="1400"/>
                </a:lnTo>
                <a:close/>
              </a:path>
              <a:path fill="darkenLess" w="34541" h="21600">
                <a:moveTo>
                  <a:pt x="34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1" y="20200"/>
                </a:lnTo>
                <a:close/>
              </a:path>
              <a:path fill="lighten" w="34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2705040" y="5589720"/>
            <a:ext cx="1440000" cy="900000"/>
          </a:xfrm>
          <a:custGeom>
            <a:avLst/>
            <a:gdLst>
              <a:gd name="textAreaLeft" fmla="*/ 58320 w 1440000"/>
              <a:gd name="textAreaRight" fmla="*/ 1381680 w 144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34555" h="21600">
                <a:moveTo>
                  <a:pt x="0" y="0"/>
                </a:moveTo>
                <a:lnTo>
                  <a:pt x="34555" y="0"/>
                </a:lnTo>
                <a:lnTo>
                  <a:pt x="34555" y="21600"/>
                </a:lnTo>
                <a:lnTo>
                  <a:pt x="0" y="21600"/>
                </a:lnTo>
                <a:close/>
              </a:path>
              <a:path fill="lightenLess" w="34555" h="21600">
                <a:moveTo>
                  <a:pt x="0" y="0"/>
                </a:moveTo>
                <a:lnTo>
                  <a:pt x="34555" y="0"/>
                </a:lnTo>
                <a:lnTo>
                  <a:pt x="33155" y="1400"/>
                </a:lnTo>
                <a:lnTo>
                  <a:pt x="1400" y="1400"/>
                </a:lnTo>
                <a:close/>
              </a:path>
              <a:path fill="darken" w="34555" h="21600">
                <a:moveTo>
                  <a:pt x="34555" y="0"/>
                </a:moveTo>
                <a:lnTo>
                  <a:pt x="34555" y="21600"/>
                </a:lnTo>
                <a:lnTo>
                  <a:pt x="33155" y="20200"/>
                </a:lnTo>
                <a:lnTo>
                  <a:pt x="33155" y="1400"/>
                </a:lnTo>
                <a:close/>
              </a:path>
              <a:path fill="darkenLess" w="34555" h="21600">
                <a:moveTo>
                  <a:pt x="34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5" y="20200"/>
                </a:lnTo>
                <a:close/>
              </a:path>
              <a:path fill="lighten" w="34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4991040" y="1398600"/>
            <a:ext cx="1440000" cy="900000"/>
          </a:xfrm>
          <a:custGeom>
            <a:avLst/>
            <a:gdLst>
              <a:gd name="textAreaLeft" fmla="*/ 58320 w 1440000"/>
              <a:gd name="textAreaRight" fmla="*/ 1381680 w 144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34555" h="21600">
                <a:moveTo>
                  <a:pt x="0" y="0"/>
                </a:moveTo>
                <a:lnTo>
                  <a:pt x="34555" y="0"/>
                </a:lnTo>
                <a:lnTo>
                  <a:pt x="34555" y="21600"/>
                </a:lnTo>
                <a:lnTo>
                  <a:pt x="0" y="21600"/>
                </a:lnTo>
                <a:close/>
              </a:path>
              <a:path fill="lightenLess" w="34555" h="21600">
                <a:moveTo>
                  <a:pt x="0" y="0"/>
                </a:moveTo>
                <a:lnTo>
                  <a:pt x="34555" y="0"/>
                </a:lnTo>
                <a:lnTo>
                  <a:pt x="33155" y="1400"/>
                </a:lnTo>
                <a:lnTo>
                  <a:pt x="1400" y="1400"/>
                </a:lnTo>
                <a:close/>
              </a:path>
              <a:path fill="darken" w="34555" h="21600">
                <a:moveTo>
                  <a:pt x="34555" y="0"/>
                </a:moveTo>
                <a:lnTo>
                  <a:pt x="34555" y="21600"/>
                </a:lnTo>
                <a:lnTo>
                  <a:pt x="33155" y="20200"/>
                </a:lnTo>
                <a:lnTo>
                  <a:pt x="33155" y="1400"/>
                </a:lnTo>
                <a:close/>
              </a:path>
              <a:path fill="darkenLess" w="34555" h="21600">
                <a:moveTo>
                  <a:pt x="34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5" y="20200"/>
                </a:lnTo>
                <a:close/>
              </a:path>
              <a:path fill="lighten" w="34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4991040" y="2446200"/>
            <a:ext cx="1440000" cy="900360"/>
          </a:xfrm>
          <a:custGeom>
            <a:avLst/>
            <a:gdLst>
              <a:gd name="textAreaLeft" fmla="*/ 58320 w 1440000"/>
              <a:gd name="textAreaRight" fmla="*/ 1381680 w 1440000"/>
              <a:gd name="textAreaTop" fmla="*/ 58320 h 900360"/>
              <a:gd name="textAreaBottom" fmla="*/ 842040 h 900360"/>
            </a:gdLst>
            <a:ahLst/>
            <a:rect l="textAreaLeft" t="textAreaTop" r="textAreaRight" b="textAreaBottom"/>
            <a:pathLst>
              <a:path w="34541" h="21600">
                <a:moveTo>
                  <a:pt x="0" y="0"/>
                </a:moveTo>
                <a:lnTo>
                  <a:pt x="34541" y="0"/>
                </a:lnTo>
                <a:lnTo>
                  <a:pt x="34541" y="21600"/>
                </a:lnTo>
                <a:lnTo>
                  <a:pt x="0" y="21600"/>
                </a:lnTo>
                <a:close/>
              </a:path>
              <a:path fill="lightenLess" w="34541" h="21600">
                <a:moveTo>
                  <a:pt x="0" y="0"/>
                </a:moveTo>
                <a:lnTo>
                  <a:pt x="34541" y="0"/>
                </a:lnTo>
                <a:lnTo>
                  <a:pt x="33141" y="1400"/>
                </a:lnTo>
                <a:lnTo>
                  <a:pt x="1400" y="1400"/>
                </a:lnTo>
                <a:close/>
              </a:path>
              <a:path fill="darken" w="34541" h="21600">
                <a:moveTo>
                  <a:pt x="34541" y="0"/>
                </a:moveTo>
                <a:lnTo>
                  <a:pt x="34541" y="21600"/>
                </a:lnTo>
                <a:lnTo>
                  <a:pt x="33141" y="20200"/>
                </a:lnTo>
                <a:lnTo>
                  <a:pt x="33141" y="1400"/>
                </a:lnTo>
                <a:close/>
              </a:path>
              <a:path fill="darkenLess" w="34541" h="21600">
                <a:moveTo>
                  <a:pt x="34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1" y="20200"/>
                </a:lnTo>
                <a:close/>
              </a:path>
              <a:path fill="lighten" w="34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2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4991040" y="3494160"/>
            <a:ext cx="1440000" cy="900000"/>
          </a:xfrm>
          <a:custGeom>
            <a:avLst/>
            <a:gdLst>
              <a:gd name="textAreaLeft" fmla="*/ 58320 w 1440000"/>
              <a:gd name="textAreaRight" fmla="*/ 1381680 w 144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34555" h="21600">
                <a:moveTo>
                  <a:pt x="0" y="0"/>
                </a:moveTo>
                <a:lnTo>
                  <a:pt x="34555" y="0"/>
                </a:lnTo>
                <a:lnTo>
                  <a:pt x="34555" y="21600"/>
                </a:lnTo>
                <a:lnTo>
                  <a:pt x="0" y="21600"/>
                </a:lnTo>
                <a:close/>
              </a:path>
              <a:path fill="lightenLess" w="34555" h="21600">
                <a:moveTo>
                  <a:pt x="0" y="0"/>
                </a:moveTo>
                <a:lnTo>
                  <a:pt x="34555" y="0"/>
                </a:lnTo>
                <a:lnTo>
                  <a:pt x="33155" y="1400"/>
                </a:lnTo>
                <a:lnTo>
                  <a:pt x="1400" y="1400"/>
                </a:lnTo>
                <a:close/>
              </a:path>
              <a:path fill="darken" w="34555" h="21600">
                <a:moveTo>
                  <a:pt x="34555" y="0"/>
                </a:moveTo>
                <a:lnTo>
                  <a:pt x="34555" y="21600"/>
                </a:lnTo>
                <a:lnTo>
                  <a:pt x="33155" y="20200"/>
                </a:lnTo>
                <a:lnTo>
                  <a:pt x="33155" y="1400"/>
                </a:lnTo>
                <a:close/>
              </a:path>
              <a:path fill="darkenLess" w="34555" h="21600">
                <a:moveTo>
                  <a:pt x="34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5" y="20200"/>
                </a:lnTo>
                <a:close/>
              </a:path>
              <a:path fill="lighten" w="34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9">
            <a:hlinkClick r:id="rId25" action="ppaction://hlinksldjump"/>
          </p:cNvPr>
          <p:cNvSpPr/>
          <p:nvPr/>
        </p:nvSpPr>
        <p:spPr>
          <a:xfrm>
            <a:off x="4991040" y="4541760"/>
            <a:ext cx="1440000" cy="900360"/>
          </a:xfrm>
          <a:custGeom>
            <a:avLst/>
            <a:gdLst>
              <a:gd name="textAreaLeft" fmla="*/ 58320 w 1440000"/>
              <a:gd name="textAreaRight" fmla="*/ 1381680 w 1440000"/>
              <a:gd name="textAreaTop" fmla="*/ 58320 h 900360"/>
              <a:gd name="textAreaBottom" fmla="*/ 842040 h 900360"/>
            </a:gdLst>
            <a:ahLst/>
            <a:rect l="textAreaLeft" t="textAreaTop" r="textAreaRight" b="textAreaBottom"/>
            <a:pathLst>
              <a:path w="34541" h="21600">
                <a:moveTo>
                  <a:pt x="0" y="0"/>
                </a:moveTo>
                <a:lnTo>
                  <a:pt x="34541" y="0"/>
                </a:lnTo>
                <a:lnTo>
                  <a:pt x="34541" y="21600"/>
                </a:lnTo>
                <a:lnTo>
                  <a:pt x="0" y="21600"/>
                </a:lnTo>
                <a:close/>
              </a:path>
              <a:path fill="lightenLess" w="34541" h="21600">
                <a:moveTo>
                  <a:pt x="0" y="0"/>
                </a:moveTo>
                <a:lnTo>
                  <a:pt x="34541" y="0"/>
                </a:lnTo>
                <a:lnTo>
                  <a:pt x="33141" y="1400"/>
                </a:lnTo>
                <a:lnTo>
                  <a:pt x="1400" y="1400"/>
                </a:lnTo>
                <a:close/>
              </a:path>
              <a:path fill="darken" w="34541" h="21600">
                <a:moveTo>
                  <a:pt x="34541" y="0"/>
                </a:moveTo>
                <a:lnTo>
                  <a:pt x="34541" y="21600"/>
                </a:lnTo>
                <a:lnTo>
                  <a:pt x="33141" y="20200"/>
                </a:lnTo>
                <a:lnTo>
                  <a:pt x="33141" y="1400"/>
                </a:lnTo>
                <a:close/>
              </a:path>
              <a:path fill="darkenLess" w="34541" h="21600">
                <a:moveTo>
                  <a:pt x="34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1" y="20200"/>
                </a:lnTo>
                <a:close/>
              </a:path>
              <a:path fill="lighten" w="34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6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0">
            <a:hlinkClick r:id="rId27" action="ppaction://hlinksldjump"/>
          </p:cNvPr>
          <p:cNvSpPr/>
          <p:nvPr/>
        </p:nvSpPr>
        <p:spPr>
          <a:xfrm>
            <a:off x="4991040" y="5589720"/>
            <a:ext cx="1440000" cy="900000"/>
          </a:xfrm>
          <a:custGeom>
            <a:avLst/>
            <a:gdLst>
              <a:gd name="textAreaLeft" fmla="*/ 58320 w 1440000"/>
              <a:gd name="textAreaRight" fmla="*/ 1381680 w 144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34555" h="21600">
                <a:moveTo>
                  <a:pt x="0" y="0"/>
                </a:moveTo>
                <a:lnTo>
                  <a:pt x="34555" y="0"/>
                </a:lnTo>
                <a:lnTo>
                  <a:pt x="34555" y="21600"/>
                </a:lnTo>
                <a:lnTo>
                  <a:pt x="0" y="21600"/>
                </a:lnTo>
                <a:close/>
              </a:path>
              <a:path fill="lightenLess" w="34555" h="21600">
                <a:moveTo>
                  <a:pt x="0" y="0"/>
                </a:moveTo>
                <a:lnTo>
                  <a:pt x="34555" y="0"/>
                </a:lnTo>
                <a:lnTo>
                  <a:pt x="33155" y="1400"/>
                </a:lnTo>
                <a:lnTo>
                  <a:pt x="1400" y="1400"/>
                </a:lnTo>
                <a:close/>
              </a:path>
              <a:path fill="darken" w="34555" h="21600">
                <a:moveTo>
                  <a:pt x="34555" y="0"/>
                </a:moveTo>
                <a:lnTo>
                  <a:pt x="34555" y="21600"/>
                </a:lnTo>
                <a:lnTo>
                  <a:pt x="33155" y="20200"/>
                </a:lnTo>
                <a:lnTo>
                  <a:pt x="33155" y="1400"/>
                </a:lnTo>
                <a:close/>
              </a:path>
              <a:path fill="darkenLess" w="34555" h="21600">
                <a:moveTo>
                  <a:pt x="34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5" y="20200"/>
                </a:lnTo>
                <a:close/>
              </a:path>
              <a:path fill="lighten" w="34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8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1"/>
          <p:cNvSpPr/>
          <p:nvPr/>
        </p:nvSpPr>
        <p:spPr>
          <a:xfrm>
            <a:off x="7277040" y="1398600"/>
            <a:ext cx="1440000" cy="900000"/>
          </a:xfrm>
          <a:custGeom>
            <a:avLst/>
            <a:gdLst>
              <a:gd name="textAreaLeft" fmla="*/ 58320 w 1440000"/>
              <a:gd name="textAreaRight" fmla="*/ 1381680 w 144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34555" h="21600">
                <a:moveTo>
                  <a:pt x="0" y="0"/>
                </a:moveTo>
                <a:lnTo>
                  <a:pt x="34555" y="0"/>
                </a:lnTo>
                <a:lnTo>
                  <a:pt x="34555" y="21600"/>
                </a:lnTo>
                <a:lnTo>
                  <a:pt x="0" y="21600"/>
                </a:lnTo>
                <a:close/>
              </a:path>
              <a:path fill="lightenLess" w="34555" h="21600">
                <a:moveTo>
                  <a:pt x="0" y="0"/>
                </a:moveTo>
                <a:lnTo>
                  <a:pt x="34555" y="0"/>
                </a:lnTo>
                <a:lnTo>
                  <a:pt x="33155" y="1400"/>
                </a:lnTo>
                <a:lnTo>
                  <a:pt x="1400" y="1400"/>
                </a:lnTo>
                <a:close/>
              </a:path>
              <a:path fill="darken" w="34555" h="21600">
                <a:moveTo>
                  <a:pt x="34555" y="0"/>
                </a:moveTo>
                <a:lnTo>
                  <a:pt x="34555" y="21600"/>
                </a:lnTo>
                <a:lnTo>
                  <a:pt x="33155" y="20200"/>
                </a:lnTo>
                <a:lnTo>
                  <a:pt x="33155" y="1400"/>
                </a:lnTo>
                <a:close/>
              </a:path>
              <a:path fill="darkenLess" w="34555" h="21600">
                <a:moveTo>
                  <a:pt x="34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5" y="20200"/>
                </a:lnTo>
                <a:close/>
              </a:path>
              <a:path fill="lighten" w="34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2"/>
          <p:cNvSpPr/>
          <p:nvPr/>
        </p:nvSpPr>
        <p:spPr>
          <a:xfrm>
            <a:off x="7277040" y="2446200"/>
            <a:ext cx="1440000" cy="900360"/>
          </a:xfrm>
          <a:custGeom>
            <a:avLst/>
            <a:gdLst>
              <a:gd name="textAreaLeft" fmla="*/ 58320 w 1440000"/>
              <a:gd name="textAreaRight" fmla="*/ 1381680 w 1440000"/>
              <a:gd name="textAreaTop" fmla="*/ 58320 h 900360"/>
              <a:gd name="textAreaBottom" fmla="*/ 842040 h 900360"/>
            </a:gdLst>
            <a:ahLst/>
            <a:rect l="textAreaLeft" t="textAreaTop" r="textAreaRight" b="textAreaBottom"/>
            <a:pathLst>
              <a:path w="34541" h="21600">
                <a:moveTo>
                  <a:pt x="0" y="0"/>
                </a:moveTo>
                <a:lnTo>
                  <a:pt x="34541" y="0"/>
                </a:lnTo>
                <a:lnTo>
                  <a:pt x="34541" y="21600"/>
                </a:lnTo>
                <a:lnTo>
                  <a:pt x="0" y="21600"/>
                </a:lnTo>
                <a:close/>
              </a:path>
              <a:path fill="lightenLess" w="34541" h="21600">
                <a:moveTo>
                  <a:pt x="0" y="0"/>
                </a:moveTo>
                <a:lnTo>
                  <a:pt x="34541" y="0"/>
                </a:lnTo>
                <a:lnTo>
                  <a:pt x="33141" y="1400"/>
                </a:lnTo>
                <a:lnTo>
                  <a:pt x="1400" y="1400"/>
                </a:lnTo>
                <a:close/>
              </a:path>
              <a:path fill="darken" w="34541" h="21600">
                <a:moveTo>
                  <a:pt x="34541" y="0"/>
                </a:moveTo>
                <a:lnTo>
                  <a:pt x="34541" y="21600"/>
                </a:lnTo>
                <a:lnTo>
                  <a:pt x="33141" y="20200"/>
                </a:lnTo>
                <a:lnTo>
                  <a:pt x="33141" y="1400"/>
                </a:lnTo>
                <a:close/>
              </a:path>
              <a:path fill="darkenLess" w="34541" h="21600">
                <a:moveTo>
                  <a:pt x="34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1" y="20200"/>
                </a:lnTo>
                <a:close/>
              </a:path>
              <a:path fill="lighten" w="34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3"/>
          <p:cNvSpPr/>
          <p:nvPr/>
        </p:nvSpPr>
        <p:spPr>
          <a:xfrm>
            <a:off x="7277040" y="3494160"/>
            <a:ext cx="1440000" cy="900000"/>
          </a:xfrm>
          <a:custGeom>
            <a:avLst/>
            <a:gdLst>
              <a:gd name="textAreaLeft" fmla="*/ 58320 w 1440000"/>
              <a:gd name="textAreaRight" fmla="*/ 1381680 w 144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34555" h="21600">
                <a:moveTo>
                  <a:pt x="0" y="0"/>
                </a:moveTo>
                <a:lnTo>
                  <a:pt x="34555" y="0"/>
                </a:lnTo>
                <a:lnTo>
                  <a:pt x="34555" y="21600"/>
                </a:lnTo>
                <a:lnTo>
                  <a:pt x="0" y="21600"/>
                </a:lnTo>
                <a:close/>
              </a:path>
              <a:path fill="lightenLess" w="34555" h="21600">
                <a:moveTo>
                  <a:pt x="0" y="0"/>
                </a:moveTo>
                <a:lnTo>
                  <a:pt x="34555" y="0"/>
                </a:lnTo>
                <a:lnTo>
                  <a:pt x="33155" y="1400"/>
                </a:lnTo>
                <a:lnTo>
                  <a:pt x="1400" y="1400"/>
                </a:lnTo>
                <a:close/>
              </a:path>
              <a:path fill="darken" w="34555" h="21600">
                <a:moveTo>
                  <a:pt x="34555" y="0"/>
                </a:moveTo>
                <a:lnTo>
                  <a:pt x="34555" y="21600"/>
                </a:lnTo>
                <a:lnTo>
                  <a:pt x="33155" y="20200"/>
                </a:lnTo>
                <a:lnTo>
                  <a:pt x="33155" y="1400"/>
                </a:lnTo>
                <a:close/>
              </a:path>
              <a:path fill="darkenLess" w="34555" h="21600">
                <a:moveTo>
                  <a:pt x="34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5" y="20200"/>
                </a:lnTo>
                <a:close/>
              </a:path>
              <a:path fill="lighten" w="34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4"/>
          <p:cNvSpPr/>
          <p:nvPr/>
        </p:nvSpPr>
        <p:spPr>
          <a:xfrm>
            <a:off x="7277040" y="4541760"/>
            <a:ext cx="1440000" cy="900360"/>
          </a:xfrm>
          <a:custGeom>
            <a:avLst/>
            <a:gdLst>
              <a:gd name="textAreaLeft" fmla="*/ 58320 w 1440000"/>
              <a:gd name="textAreaRight" fmla="*/ 1381680 w 1440000"/>
              <a:gd name="textAreaTop" fmla="*/ 58320 h 900360"/>
              <a:gd name="textAreaBottom" fmla="*/ 842040 h 900360"/>
            </a:gdLst>
            <a:ahLst/>
            <a:rect l="textAreaLeft" t="textAreaTop" r="textAreaRight" b="textAreaBottom"/>
            <a:pathLst>
              <a:path w="34541" h="21600">
                <a:moveTo>
                  <a:pt x="0" y="0"/>
                </a:moveTo>
                <a:lnTo>
                  <a:pt x="34541" y="0"/>
                </a:lnTo>
                <a:lnTo>
                  <a:pt x="34541" y="21600"/>
                </a:lnTo>
                <a:lnTo>
                  <a:pt x="0" y="21600"/>
                </a:lnTo>
                <a:close/>
              </a:path>
              <a:path fill="lightenLess" w="34541" h="21600">
                <a:moveTo>
                  <a:pt x="0" y="0"/>
                </a:moveTo>
                <a:lnTo>
                  <a:pt x="34541" y="0"/>
                </a:lnTo>
                <a:lnTo>
                  <a:pt x="33141" y="1400"/>
                </a:lnTo>
                <a:lnTo>
                  <a:pt x="1400" y="1400"/>
                </a:lnTo>
                <a:close/>
              </a:path>
              <a:path fill="darken" w="34541" h="21600">
                <a:moveTo>
                  <a:pt x="34541" y="0"/>
                </a:moveTo>
                <a:lnTo>
                  <a:pt x="34541" y="21600"/>
                </a:lnTo>
                <a:lnTo>
                  <a:pt x="33141" y="20200"/>
                </a:lnTo>
                <a:lnTo>
                  <a:pt x="33141" y="1400"/>
                </a:lnTo>
                <a:close/>
              </a:path>
              <a:path fill="darkenLess" w="34541" h="21600">
                <a:moveTo>
                  <a:pt x="345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1" y="20200"/>
                </a:lnTo>
                <a:close/>
              </a:path>
              <a:path fill="lighten" w="345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5"/>
          <p:cNvSpPr/>
          <p:nvPr/>
        </p:nvSpPr>
        <p:spPr>
          <a:xfrm>
            <a:off x="7277040" y="5589720"/>
            <a:ext cx="1440000" cy="900000"/>
          </a:xfrm>
          <a:custGeom>
            <a:avLst/>
            <a:gdLst>
              <a:gd name="textAreaLeft" fmla="*/ 58320 w 1440000"/>
              <a:gd name="textAreaRight" fmla="*/ 1381680 w 144000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34555" h="21600">
                <a:moveTo>
                  <a:pt x="0" y="0"/>
                </a:moveTo>
                <a:lnTo>
                  <a:pt x="34555" y="0"/>
                </a:lnTo>
                <a:lnTo>
                  <a:pt x="34555" y="21600"/>
                </a:lnTo>
                <a:lnTo>
                  <a:pt x="0" y="21600"/>
                </a:lnTo>
                <a:close/>
              </a:path>
              <a:path fill="lightenLess" w="34555" h="21600">
                <a:moveTo>
                  <a:pt x="0" y="0"/>
                </a:moveTo>
                <a:lnTo>
                  <a:pt x="34555" y="0"/>
                </a:lnTo>
                <a:lnTo>
                  <a:pt x="33155" y="1400"/>
                </a:lnTo>
                <a:lnTo>
                  <a:pt x="1400" y="1400"/>
                </a:lnTo>
                <a:close/>
              </a:path>
              <a:path fill="darken" w="34555" h="21600">
                <a:moveTo>
                  <a:pt x="34555" y="0"/>
                </a:moveTo>
                <a:lnTo>
                  <a:pt x="34555" y="21600"/>
                </a:lnTo>
                <a:lnTo>
                  <a:pt x="33155" y="20200"/>
                </a:lnTo>
                <a:lnTo>
                  <a:pt x="33155" y="1400"/>
                </a:lnTo>
                <a:close/>
              </a:path>
              <a:path fill="darkenLess" w="34555" h="21600">
                <a:moveTo>
                  <a:pt x="34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5" y="20200"/>
                </a:lnTo>
                <a:close/>
              </a:path>
              <a:path fill="lighten" w="34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0"/>
          <p:cNvSpPr/>
          <p:nvPr/>
        </p:nvSpPr>
        <p:spPr>
          <a:xfrm>
            <a:off x="422280" y="1398600"/>
            <a:ext cx="1441440" cy="900000"/>
          </a:xfrm>
          <a:custGeom>
            <a:avLst/>
            <a:gdLst>
              <a:gd name="textAreaLeft" fmla="*/ 58320 w 1441440"/>
              <a:gd name="textAreaRight" fmla="*/ 1383120 w 14414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34589" h="21600">
                <a:moveTo>
                  <a:pt x="0" y="0"/>
                </a:moveTo>
                <a:lnTo>
                  <a:pt x="34589" y="0"/>
                </a:lnTo>
                <a:lnTo>
                  <a:pt x="34589" y="21600"/>
                </a:lnTo>
                <a:lnTo>
                  <a:pt x="0" y="21600"/>
                </a:lnTo>
                <a:close/>
              </a:path>
              <a:path fill="lightenLess" w="34589" h="21600">
                <a:moveTo>
                  <a:pt x="0" y="0"/>
                </a:moveTo>
                <a:lnTo>
                  <a:pt x="34589" y="0"/>
                </a:lnTo>
                <a:lnTo>
                  <a:pt x="33189" y="1400"/>
                </a:lnTo>
                <a:lnTo>
                  <a:pt x="1400" y="1400"/>
                </a:lnTo>
                <a:close/>
              </a:path>
              <a:path fill="darken" w="34589" h="21600">
                <a:moveTo>
                  <a:pt x="34589" y="0"/>
                </a:moveTo>
                <a:lnTo>
                  <a:pt x="34589" y="21600"/>
                </a:lnTo>
                <a:lnTo>
                  <a:pt x="33189" y="20200"/>
                </a:lnTo>
                <a:lnTo>
                  <a:pt x="33189" y="1400"/>
                </a:lnTo>
                <a:close/>
              </a:path>
              <a:path fill="darkenLess" w="34589" h="21600">
                <a:moveTo>
                  <a:pt x="345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89" y="20200"/>
                </a:lnTo>
                <a:close/>
              </a:path>
              <a:path fill="lighten" w="345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8"/>
          <p:cNvSpPr/>
          <p:nvPr/>
        </p:nvSpPr>
        <p:spPr>
          <a:xfrm>
            <a:off x="0" y="1116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Liebesle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7"/>
          <p:cNvSpPr/>
          <p:nvPr/>
        </p:nvSpPr>
        <p:spPr>
          <a:xfrm>
            <a:off x="2281320" y="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Kond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8"/>
          <p:cNvSpPr/>
          <p:nvPr/>
        </p:nvSpPr>
        <p:spPr>
          <a:xfrm>
            <a:off x="4567320" y="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Ist da w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9"/>
          <p:cNvSpPr/>
          <p:nvPr/>
        </p:nvSpPr>
        <p:spPr>
          <a:xfrm>
            <a:off x="6853320" y="18252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Beratung u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Behand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Gerade Verbindung 3"/>
          <p:cNvSpPr/>
          <p:nvPr/>
        </p:nvSpPr>
        <p:spPr>
          <a:xfrm>
            <a:off x="395280" y="372960"/>
            <a:ext cx="151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Gerade Verbindung 28"/>
          <p:cNvSpPr/>
          <p:nvPr/>
        </p:nvSpPr>
        <p:spPr>
          <a:xfrm>
            <a:off x="2843280" y="372960"/>
            <a:ext cx="115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Gerade Verbindung 35"/>
          <p:cNvSpPr/>
          <p:nvPr/>
        </p:nvSpPr>
        <p:spPr>
          <a:xfrm>
            <a:off x="5003640" y="37296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Gerade Verbindung 42"/>
          <p:cNvSpPr/>
          <p:nvPr/>
        </p:nvSpPr>
        <p:spPr>
          <a:xfrm>
            <a:off x="7128000" y="372960"/>
            <a:ext cx="16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tern mit 5 Zacken 1"/>
          <p:cNvSpPr/>
          <p:nvPr/>
        </p:nvSpPr>
        <p:spPr>
          <a:xfrm>
            <a:off x="1547640" y="566100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tern mit 5 Zacken 34"/>
          <p:cNvSpPr/>
          <p:nvPr/>
        </p:nvSpPr>
        <p:spPr>
          <a:xfrm>
            <a:off x="3830760" y="4613400"/>
            <a:ext cx="215640" cy="21564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tern mit 5 Zacken 37"/>
          <p:cNvSpPr/>
          <p:nvPr/>
        </p:nvSpPr>
        <p:spPr>
          <a:xfrm>
            <a:off x="6114960" y="566100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tern mit 5 Zacken 39"/>
          <p:cNvSpPr/>
          <p:nvPr/>
        </p:nvSpPr>
        <p:spPr>
          <a:xfrm>
            <a:off x="8400960" y="4613400"/>
            <a:ext cx="216000" cy="21564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Jeder vierte Deutsch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0" y="18720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wort 5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feld 4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Liebesleb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Gerade Verbindung 5"/>
          <p:cNvSpPr/>
          <p:nvPr/>
        </p:nvSpPr>
        <p:spPr>
          <a:xfrm>
            <a:off x="250920" y="247680"/>
            <a:ext cx="79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04640"/>
            <a:ext cx="7772400" cy="22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Wie viele haben sich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schon mal Sorgen über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eine Ansteckung mit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einer sexuell übertragbaren Infektion (STI) gemacht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ge 5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feld 3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Liebesleb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Gerade Verbindung 4"/>
          <p:cNvSpPr/>
          <p:nvPr/>
        </p:nvSpPr>
        <p:spPr>
          <a:xfrm>
            <a:off x="250920" y="247680"/>
            <a:ext cx="79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Bild 14" descr=""/>
          <p:cNvPicPr/>
          <p:nvPr/>
        </p:nvPicPr>
        <p:blipFill>
          <a:blip r:embed="rId1"/>
          <a:stretch/>
        </p:blipFill>
        <p:spPr>
          <a:xfrm>
            <a:off x="8315280" y="5470560"/>
            <a:ext cx="568440" cy="1127160"/>
          </a:xfrm>
          <a:prstGeom prst="rect">
            <a:avLst/>
          </a:prstGeom>
          <a:ln w="0">
            <a:noFill/>
          </a:ln>
        </p:spPr>
      </p:pic>
      <p:sp>
        <p:nvSpPr>
          <p:cNvPr id="133" name="Rechteck 8"/>
          <p:cNvSpPr/>
          <p:nvPr/>
        </p:nvSpPr>
        <p:spPr>
          <a:xfrm>
            <a:off x="3816360" y="6308640"/>
            <a:ext cx="1512720" cy="2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feld 11">
            <a:hlinkClick r:id="" action="ppaction://hlinkshowjump?jump=firstslide"/>
          </p:cNvPr>
          <p:cNvSpPr/>
          <p:nvPr/>
        </p:nvSpPr>
        <p:spPr>
          <a:xfrm>
            <a:off x="3842280" y="6308640"/>
            <a:ext cx="1461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Zurück zur Übersicht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Die sicherste Maßnahme, um sich vor einer sexuell übertragbaren Infektion (STI) zu schütze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18720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wort 1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feld 4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Kond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Gerade Verbindung 5"/>
          <p:cNvSpPr/>
          <p:nvPr/>
        </p:nvSpPr>
        <p:spPr>
          <a:xfrm>
            <a:off x="250920" y="247680"/>
            <a:ext cx="64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Was sind Kondome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9836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ge 1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feld 3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Kond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Gerade Verbindung 4"/>
          <p:cNvSpPr/>
          <p:nvPr/>
        </p:nvSpPr>
        <p:spPr>
          <a:xfrm>
            <a:off x="250920" y="247680"/>
            <a:ext cx="64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Bild 14" descr=""/>
          <p:cNvPicPr/>
          <p:nvPr/>
        </p:nvPicPr>
        <p:blipFill>
          <a:blip r:embed="rId1"/>
          <a:stretch/>
        </p:blipFill>
        <p:spPr>
          <a:xfrm>
            <a:off x="8315280" y="5470560"/>
            <a:ext cx="568440" cy="1127160"/>
          </a:xfrm>
          <a:prstGeom prst="rect">
            <a:avLst/>
          </a:prstGeom>
          <a:ln w="0">
            <a:noFill/>
          </a:ln>
        </p:spPr>
      </p:pic>
      <p:sp>
        <p:nvSpPr>
          <p:cNvPr id="144" name="Rechteck 8"/>
          <p:cNvSpPr/>
          <p:nvPr/>
        </p:nvSpPr>
        <p:spPr>
          <a:xfrm>
            <a:off x="3816360" y="6308640"/>
            <a:ext cx="1512720" cy="2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feld 11">
            <a:hlinkClick r:id="" action="ppaction://hlinkshowjump?jump=firstslide"/>
          </p:cNvPr>
          <p:cNvSpPr/>
          <p:nvPr/>
        </p:nvSpPr>
        <p:spPr>
          <a:xfrm>
            <a:off x="3842280" y="6308640"/>
            <a:ext cx="1461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Zurück zur Übersicht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Einfach umdrehen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und wieder auf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den Penis setze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wort 2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feld 4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Kond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Gerade Verbindung 5"/>
          <p:cNvSpPr/>
          <p:nvPr/>
        </p:nvSpPr>
        <p:spPr>
          <a:xfrm>
            <a:off x="250920" y="247680"/>
            <a:ext cx="64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7664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Was sollte man auf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keinen Fall tun, wenn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man merkt, dass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das Kondom falsch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herum sitzt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ge 2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feld 3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Kond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Gerade Verbindung 4"/>
          <p:cNvSpPr/>
          <p:nvPr/>
        </p:nvSpPr>
        <p:spPr>
          <a:xfrm>
            <a:off x="250920" y="247680"/>
            <a:ext cx="64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Bild 14" descr=""/>
          <p:cNvPicPr/>
          <p:nvPr/>
        </p:nvPicPr>
        <p:blipFill>
          <a:blip r:embed="rId1"/>
          <a:stretch/>
        </p:blipFill>
        <p:spPr>
          <a:xfrm>
            <a:off x="8315280" y="5470560"/>
            <a:ext cx="568440" cy="1127160"/>
          </a:xfrm>
          <a:prstGeom prst="rect">
            <a:avLst/>
          </a:prstGeom>
          <a:ln w="0">
            <a:noFill/>
          </a:ln>
        </p:spPr>
      </p:pic>
      <p:sp>
        <p:nvSpPr>
          <p:cNvPr id="155" name="Rechteck 8"/>
          <p:cNvSpPr/>
          <p:nvPr/>
        </p:nvSpPr>
        <p:spPr>
          <a:xfrm>
            <a:off x="3816360" y="6308640"/>
            <a:ext cx="1512720" cy="2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feld 11">
            <a:hlinkClick r:id="" action="ppaction://hlinkshowjump?jump=firstslide"/>
          </p:cNvPr>
          <p:cNvSpPr/>
          <p:nvPr/>
        </p:nvSpPr>
        <p:spPr>
          <a:xfrm>
            <a:off x="3842280" y="6308640"/>
            <a:ext cx="1461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Zurück zur Übersicht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Kleinere Kondome: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Breite ca. 4,9 cm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0" y="2016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wort 3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feld 4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Kond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Gerade Verbindung 5"/>
          <p:cNvSpPr/>
          <p:nvPr/>
        </p:nvSpPr>
        <p:spPr>
          <a:xfrm>
            <a:off x="250920" y="247680"/>
            <a:ext cx="64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Was kaufe ich,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wenn der Penis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schlanker ist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0" y="18720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ge 3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feld 3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Kond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Gerade Verbindung 4"/>
          <p:cNvSpPr/>
          <p:nvPr/>
        </p:nvSpPr>
        <p:spPr>
          <a:xfrm>
            <a:off x="250920" y="247680"/>
            <a:ext cx="64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ild 14" descr=""/>
          <p:cNvPicPr/>
          <p:nvPr/>
        </p:nvPicPr>
        <p:blipFill>
          <a:blip r:embed="rId1"/>
          <a:stretch/>
        </p:blipFill>
        <p:spPr>
          <a:xfrm>
            <a:off x="8315280" y="5470560"/>
            <a:ext cx="568440" cy="1127160"/>
          </a:xfrm>
          <a:prstGeom prst="rect">
            <a:avLst/>
          </a:prstGeom>
          <a:ln w="0">
            <a:noFill/>
          </a:ln>
        </p:spPr>
      </p:pic>
      <p:sp>
        <p:nvSpPr>
          <p:cNvPr id="166" name="Rechteck 10"/>
          <p:cNvSpPr/>
          <p:nvPr/>
        </p:nvSpPr>
        <p:spPr>
          <a:xfrm>
            <a:off x="3816360" y="6308640"/>
            <a:ext cx="1512720" cy="2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feld 11">
            <a:hlinkClick r:id="" action="ppaction://hlinkshowjump?jump=firstslide"/>
          </p:cNvPr>
          <p:cNvSpPr/>
          <p:nvPr/>
        </p:nvSpPr>
        <p:spPr>
          <a:xfrm>
            <a:off x="3842280" y="6308640"/>
            <a:ext cx="1461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Zurück zur Übersicht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Mit einem Frauenkondom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wort 4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feld 4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Kond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Gerade Verbindung 5"/>
          <p:cNvSpPr/>
          <p:nvPr/>
        </p:nvSpPr>
        <p:spPr>
          <a:xfrm>
            <a:off x="250920" y="247680"/>
            <a:ext cx="64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Wie können sich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Frauen beim Vaginalsex selber mit einem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Kondom schützen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0" y="19368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ge 4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feld 3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Kond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Gerade Verbindung 4"/>
          <p:cNvSpPr/>
          <p:nvPr/>
        </p:nvSpPr>
        <p:spPr>
          <a:xfrm>
            <a:off x="250920" y="247680"/>
            <a:ext cx="64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ild 14" descr=""/>
          <p:cNvPicPr/>
          <p:nvPr/>
        </p:nvPicPr>
        <p:blipFill>
          <a:blip r:embed="rId1"/>
          <a:stretch/>
        </p:blipFill>
        <p:spPr>
          <a:xfrm>
            <a:off x="8315280" y="5470560"/>
            <a:ext cx="568440" cy="1127160"/>
          </a:xfrm>
          <a:prstGeom prst="rect">
            <a:avLst/>
          </a:prstGeom>
          <a:ln w="0">
            <a:noFill/>
          </a:ln>
        </p:spPr>
      </p:pic>
      <p:sp>
        <p:nvSpPr>
          <p:cNvPr id="177" name="Rechteck 8"/>
          <p:cNvSpPr/>
          <p:nvPr/>
        </p:nvSpPr>
        <p:spPr>
          <a:xfrm>
            <a:off x="3816360" y="6308640"/>
            <a:ext cx="1512720" cy="2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feld 11">
            <a:hlinkClick r:id="" action="ppaction://hlinkshowjump?jump=firstslide"/>
          </p:cNvPr>
          <p:cNvSpPr/>
          <p:nvPr/>
        </p:nvSpPr>
        <p:spPr>
          <a:xfrm>
            <a:off x="3842280" y="6308640"/>
            <a:ext cx="1461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Zurück zur Übersicht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916280"/>
            <a:ext cx="91440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Sex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wort 1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feld 4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Liebesleb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Gerade Verbindung 5"/>
          <p:cNvSpPr/>
          <p:nvPr/>
        </p:nvSpPr>
        <p:spPr>
          <a:xfrm>
            <a:off x="250920" y="247680"/>
            <a:ext cx="79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Pille danach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am besten innerhalb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von 12 Stunden nach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dem Sex einnehme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0" y="18720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wort 5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feld 4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Kond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Gerade Verbindung 5"/>
          <p:cNvSpPr/>
          <p:nvPr/>
        </p:nvSpPr>
        <p:spPr>
          <a:xfrm>
            <a:off x="250920" y="247680"/>
            <a:ext cx="64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565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Wie kann man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im Notfall (Verhütungspanne)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eine ungewollte Schwangerschaft verhindern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ge 5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feld 3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Kond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Gerade Verbindung 4"/>
          <p:cNvSpPr/>
          <p:nvPr/>
        </p:nvSpPr>
        <p:spPr>
          <a:xfrm>
            <a:off x="250920" y="247680"/>
            <a:ext cx="64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Bild 14" descr=""/>
          <p:cNvPicPr/>
          <p:nvPr/>
        </p:nvPicPr>
        <p:blipFill>
          <a:blip r:embed="rId1"/>
          <a:stretch/>
        </p:blipFill>
        <p:spPr>
          <a:xfrm>
            <a:off x="8315280" y="5470560"/>
            <a:ext cx="568440" cy="1127160"/>
          </a:xfrm>
          <a:prstGeom prst="rect">
            <a:avLst/>
          </a:prstGeom>
          <a:ln w="0">
            <a:noFill/>
          </a:ln>
        </p:spPr>
      </p:pic>
      <p:sp>
        <p:nvSpPr>
          <p:cNvPr id="188" name="Rechteck 8"/>
          <p:cNvSpPr/>
          <p:nvPr/>
        </p:nvSpPr>
        <p:spPr>
          <a:xfrm>
            <a:off x="3816360" y="6308640"/>
            <a:ext cx="1512720" cy="2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feld 11">
            <a:hlinkClick r:id="" action="ppaction://hlinkshowjump?jump=firstslide"/>
          </p:cNvPr>
          <p:cNvSpPr/>
          <p:nvPr/>
        </p:nvSpPr>
        <p:spPr>
          <a:xfrm>
            <a:off x="3842280" y="6308640"/>
            <a:ext cx="1461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Zurück zur Übersicht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STI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wort 1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feld 4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Ist da was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Gerade Verbindung 5"/>
          <p:cNvSpPr/>
          <p:nvPr/>
        </p:nvSpPr>
        <p:spPr>
          <a:xfrm>
            <a:off x="250920" y="247680"/>
            <a:ext cx="73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Wie lautet die Abkürzung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für sexuell übertragbare Infektionen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19836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ge 1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feld 3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Ist da was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Gerade Verbindung 4"/>
          <p:cNvSpPr/>
          <p:nvPr/>
        </p:nvSpPr>
        <p:spPr>
          <a:xfrm>
            <a:off x="250920" y="247680"/>
            <a:ext cx="73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Bild 14" descr=""/>
          <p:cNvPicPr/>
          <p:nvPr/>
        </p:nvPicPr>
        <p:blipFill>
          <a:blip r:embed="rId1"/>
          <a:stretch/>
        </p:blipFill>
        <p:spPr>
          <a:xfrm>
            <a:off x="8315280" y="5470560"/>
            <a:ext cx="568440" cy="1127160"/>
          </a:xfrm>
          <a:prstGeom prst="rect">
            <a:avLst/>
          </a:prstGeom>
          <a:ln w="0">
            <a:noFill/>
          </a:ln>
        </p:spPr>
      </p:pic>
      <p:sp>
        <p:nvSpPr>
          <p:cNvPr id="199" name="Rechteck 8"/>
          <p:cNvSpPr/>
          <p:nvPr/>
        </p:nvSpPr>
        <p:spPr>
          <a:xfrm>
            <a:off x="3816360" y="6308640"/>
            <a:ext cx="1512720" cy="2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feld 11">
            <a:hlinkClick r:id="" action="ppaction://hlinkshowjump?jump=firstslide"/>
          </p:cNvPr>
          <p:cNvSpPr/>
          <p:nvPr/>
        </p:nvSpPr>
        <p:spPr>
          <a:xfrm>
            <a:off x="3842280" y="6308640"/>
            <a:ext cx="1461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Zurück zur Übersicht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Vaginal- und Analsex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ohne Kondom, Oralsex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wort 2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feld 4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Ist da was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Gerade Verbindung 5"/>
          <p:cNvSpPr/>
          <p:nvPr/>
        </p:nvSpPr>
        <p:spPr>
          <a:xfrm>
            <a:off x="250920" y="247680"/>
            <a:ext cx="73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Wie werden sexuell übertragbare Infektionen (STI) am häufigsten übertragen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ge 2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feld 3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Ist da was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Gerade Verbindung 4"/>
          <p:cNvSpPr/>
          <p:nvPr/>
        </p:nvSpPr>
        <p:spPr>
          <a:xfrm>
            <a:off x="250920" y="247680"/>
            <a:ext cx="73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Bild 14" descr=""/>
          <p:cNvPicPr/>
          <p:nvPr/>
        </p:nvPicPr>
        <p:blipFill>
          <a:blip r:embed="rId1"/>
          <a:stretch/>
        </p:blipFill>
        <p:spPr>
          <a:xfrm>
            <a:off x="8315280" y="5470560"/>
            <a:ext cx="568440" cy="1127160"/>
          </a:xfrm>
          <a:prstGeom prst="rect">
            <a:avLst/>
          </a:prstGeom>
          <a:ln w="0">
            <a:noFill/>
          </a:ln>
        </p:spPr>
      </p:pic>
      <p:sp>
        <p:nvSpPr>
          <p:cNvPr id="210" name="Rechteck 8"/>
          <p:cNvSpPr/>
          <p:nvPr/>
        </p:nvSpPr>
        <p:spPr>
          <a:xfrm>
            <a:off x="3816360" y="6308640"/>
            <a:ext cx="1512720" cy="2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feld 11">
            <a:hlinkClick r:id="" action="ppaction://hlinkshowjump?jump=firstslide"/>
          </p:cNvPr>
          <p:cNvSpPr/>
          <p:nvPr/>
        </p:nvSpPr>
        <p:spPr>
          <a:xfrm>
            <a:off x="3842280" y="6308640"/>
            <a:ext cx="1461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Zurück zur Übersicht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Ungewöhnlicher Ausfluss aus Scheide, Penis oder Po sowie Zwischenblutunge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wort 3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feld 4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Ist da was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Gerade Verbindung 5"/>
          <p:cNvSpPr/>
          <p:nvPr/>
        </p:nvSpPr>
        <p:spPr>
          <a:xfrm>
            <a:off x="250920" y="247680"/>
            <a:ext cx="73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Was sind die häufigsten Anzeichen/Symptome für eine sexuell übertragbare Infektion (STI)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19836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ge 3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feld 3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Ist da was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Gerade Verbindung 4"/>
          <p:cNvSpPr/>
          <p:nvPr/>
        </p:nvSpPr>
        <p:spPr>
          <a:xfrm>
            <a:off x="250920" y="247680"/>
            <a:ext cx="73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Bild 14" descr=""/>
          <p:cNvPicPr/>
          <p:nvPr/>
        </p:nvPicPr>
        <p:blipFill>
          <a:blip r:embed="rId1"/>
          <a:stretch/>
        </p:blipFill>
        <p:spPr>
          <a:xfrm>
            <a:off x="8315280" y="5470560"/>
            <a:ext cx="568440" cy="1127160"/>
          </a:xfrm>
          <a:prstGeom prst="rect">
            <a:avLst/>
          </a:prstGeom>
          <a:ln w="0">
            <a:noFill/>
          </a:ln>
        </p:spPr>
      </p:pic>
      <p:sp>
        <p:nvSpPr>
          <p:cNvPr id="221" name="Rechteck 8"/>
          <p:cNvSpPr/>
          <p:nvPr/>
        </p:nvSpPr>
        <p:spPr>
          <a:xfrm>
            <a:off x="3816360" y="6308640"/>
            <a:ext cx="1512720" cy="2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feld 11">
            <a:hlinkClick r:id="" action="ppaction://hlinkshowjump?jump=firstslide"/>
          </p:cNvPr>
          <p:cNvSpPr/>
          <p:nvPr/>
        </p:nvSpPr>
        <p:spPr>
          <a:xfrm>
            <a:off x="3842280" y="6308640"/>
            <a:ext cx="1461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Zurück zur Übersicht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1916280"/>
            <a:ext cx="91440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Nein, viele Menschen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merken gar nicht, dass sie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sich angesteckt haben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wort 4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feld 4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Ist da was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Gerade Verbindung 5"/>
          <p:cNvSpPr/>
          <p:nvPr/>
        </p:nvSpPr>
        <p:spPr>
          <a:xfrm>
            <a:off x="250920" y="247680"/>
            <a:ext cx="73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Führen sexuell übertragbare Infektionen (STI) immer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zu Symptomen/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Krankheitszeichen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0" y="19836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ge 4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feld 3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Ist da was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Gerade Verbindung 4"/>
          <p:cNvSpPr/>
          <p:nvPr/>
        </p:nvSpPr>
        <p:spPr>
          <a:xfrm>
            <a:off x="250920" y="247680"/>
            <a:ext cx="73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Bild 14" descr=""/>
          <p:cNvPicPr/>
          <p:nvPr/>
        </p:nvPicPr>
        <p:blipFill>
          <a:blip r:embed="rId1"/>
          <a:stretch/>
        </p:blipFill>
        <p:spPr>
          <a:xfrm>
            <a:off x="8315280" y="5470560"/>
            <a:ext cx="568440" cy="1127160"/>
          </a:xfrm>
          <a:prstGeom prst="rect">
            <a:avLst/>
          </a:prstGeom>
          <a:ln w="0">
            <a:noFill/>
          </a:ln>
        </p:spPr>
      </p:pic>
      <p:sp>
        <p:nvSpPr>
          <p:cNvPr id="232" name="Rechteck 8"/>
          <p:cNvSpPr/>
          <p:nvPr/>
        </p:nvSpPr>
        <p:spPr>
          <a:xfrm>
            <a:off x="3816360" y="6308640"/>
            <a:ext cx="1512720" cy="2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feld 11">
            <a:hlinkClick r:id="" action="ppaction://hlinkshowjump?jump=firstslide"/>
          </p:cNvPr>
          <p:cNvSpPr/>
          <p:nvPr/>
        </p:nvSpPr>
        <p:spPr>
          <a:xfrm>
            <a:off x="3842280" y="6308640"/>
            <a:ext cx="1461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Zurück zur Übersicht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0500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Was gehört für viele Menschen zu den schönsten Dingen im Leben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ge 1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feld 1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Liebesleb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Gerade Verbindung 4"/>
          <p:cNvSpPr/>
          <p:nvPr/>
        </p:nvSpPr>
        <p:spPr>
          <a:xfrm>
            <a:off x="250920" y="247680"/>
            <a:ext cx="79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hteck 5"/>
          <p:cNvSpPr/>
          <p:nvPr/>
        </p:nvSpPr>
        <p:spPr>
          <a:xfrm>
            <a:off x="3816360" y="6308640"/>
            <a:ext cx="1512720" cy="2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feld 11">
            <a:hlinkClick r:id="" action="ppaction://hlinkshowjump?jump=firstslide"/>
          </p:cNvPr>
          <p:cNvSpPr/>
          <p:nvPr/>
        </p:nvSpPr>
        <p:spPr>
          <a:xfrm>
            <a:off x="3842280" y="6308640"/>
            <a:ext cx="1461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Zurück zur Übersicht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Bild 14" descr=""/>
          <p:cNvPicPr/>
          <p:nvPr/>
        </p:nvPicPr>
        <p:blipFill>
          <a:blip r:embed="rId1"/>
          <a:stretch/>
        </p:blipFill>
        <p:spPr>
          <a:xfrm>
            <a:off x="8315280" y="5470560"/>
            <a:ext cx="568440" cy="112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Erzähl deinem Partner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oder deiner Partnerin davon, wenn du dich mit einer STI angesteckt hast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wort 5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feld 4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Ist da was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Gerade Verbindung 5"/>
          <p:cNvSpPr/>
          <p:nvPr/>
        </p:nvSpPr>
        <p:spPr>
          <a:xfrm>
            <a:off x="250920" y="247680"/>
            <a:ext cx="73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Was soll ich tun, wenn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ich in einer Beziehung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bin und mich mit einer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sexuell übertragbaren Infektion (STI) angesteckt habe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2016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ge 5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feld 3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Ist da was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Gerade Verbindung 4"/>
          <p:cNvSpPr/>
          <p:nvPr/>
        </p:nvSpPr>
        <p:spPr>
          <a:xfrm>
            <a:off x="250920" y="247680"/>
            <a:ext cx="73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Bild 14" descr=""/>
          <p:cNvPicPr/>
          <p:nvPr/>
        </p:nvPicPr>
        <p:blipFill>
          <a:blip r:embed="rId1"/>
          <a:stretch/>
        </p:blipFill>
        <p:spPr>
          <a:xfrm>
            <a:off x="8315280" y="5470560"/>
            <a:ext cx="568440" cy="1127160"/>
          </a:xfrm>
          <a:prstGeom prst="rect">
            <a:avLst/>
          </a:prstGeom>
          <a:ln w="0">
            <a:noFill/>
          </a:ln>
        </p:spPr>
      </p:pic>
      <p:sp>
        <p:nvSpPr>
          <p:cNvPr id="243" name="Rechteck 8"/>
          <p:cNvSpPr/>
          <p:nvPr/>
        </p:nvSpPr>
        <p:spPr>
          <a:xfrm>
            <a:off x="3816360" y="6308640"/>
            <a:ext cx="1512720" cy="2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feld 11">
            <a:hlinkClick r:id="" action="ppaction://hlinkshowjump?jump=firstslide"/>
          </p:cNvPr>
          <p:cNvSpPr/>
          <p:nvPr/>
        </p:nvSpPr>
        <p:spPr>
          <a:xfrm>
            <a:off x="3842280" y="6308640"/>
            <a:ext cx="1461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Zurück zur Übersicht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Anonyme Online- und Telefonberatung der BZgA oder bei den örtlichen Gesundheitsämter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wort 1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feld 4"/>
          <p:cNvSpPr/>
          <p:nvPr/>
        </p:nvSpPr>
        <p:spPr>
          <a:xfrm>
            <a:off x="250920" y="260280"/>
            <a:ext cx="201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Beratung und Behandl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Gerade Verbindung 5"/>
          <p:cNvSpPr/>
          <p:nvPr/>
        </p:nvSpPr>
        <p:spPr>
          <a:xfrm>
            <a:off x="250920" y="247680"/>
            <a:ext cx="174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Wo kann ich mich anonym zu sexuell übertragbaren Infektionen (STI) beraten lassen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ge 1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feld 3"/>
          <p:cNvSpPr/>
          <p:nvPr/>
        </p:nvSpPr>
        <p:spPr>
          <a:xfrm>
            <a:off x="250920" y="260280"/>
            <a:ext cx="201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Beratung und Behandl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Gerade Verbindung 4"/>
          <p:cNvSpPr/>
          <p:nvPr/>
        </p:nvSpPr>
        <p:spPr>
          <a:xfrm>
            <a:off x="250920" y="247680"/>
            <a:ext cx="174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Bild 14" descr=""/>
          <p:cNvPicPr/>
          <p:nvPr/>
        </p:nvPicPr>
        <p:blipFill>
          <a:blip r:embed="rId1"/>
          <a:stretch/>
        </p:blipFill>
        <p:spPr>
          <a:xfrm>
            <a:off x="8315280" y="5470560"/>
            <a:ext cx="568440" cy="1127160"/>
          </a:xfrm>
          <a:prstGeom prst="rect">
            <a:avLst/>
          </a:prstGeom>
          <a:ln w="0">
            <a:noFill/>
          </a:ln>
        </p:spPr>
      </p:pic>
      <p:sp>
        <p:nvSpPr>
          <p:cNvPr id="254" name="Rechteck 8"/>
          <p:cNvSpPr/>
          <p:nvPr/>
        </p:nvSpPr>
        <p:spPr>
          <a:xfrm>
            <a:off x="3816360" y="6308640"/>
            <a:ext cx="1512720" cy="2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feld 11">
            <a:hlinkClick r:id="" action="ppaction://hlinkshowjump?jump=firstslide"/>
          </p:cNvPr>
          <p:cNvSpPr/>
          <p:nvPr/>
        </p:nvSpPr>
        <p:spPr>
          <a:xfrm>
            <a:off x="3842280" y="6308640"/>
            <a:ext cx="1461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Zurück zur Übersicht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Facharzt für Haut- und Geschlechtskrankheiten, Frauenärztin oder Urologe für Jungen und Männer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wort 2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feld 4"/>
          <p:cNvSpPr/>
          <p:nvPr/>
        </p:nvSpPr>
        <p:spPr>
          <a:xfrm>
            <a:off x="250920" y="260280"/>
            <a:ext cx="201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Beratung und Behandl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Gerade Verbindung 5"/>
          <p:cNvSpPr/>
          <p:nvPr/>
        </p:nvSpPr>
        <p:spPr>
          <a:xfrm>
            <a:off x="250920" y="247680"/>
            <a:ext cx="174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Bei wem kann ich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mich u. a. auf sexuell übertragbare Infektionen (STI) untersuchen lassen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0" y="19368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ge 2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feld 3"/>
          <p:cNvSpPr/>
          <p:nvPr/>
        </p:nvSpPr>
        <p:spPr>
          <a:xfrm>
            <a:off x="250920" y="260280"/>
            <a:ext cx="201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Beratung und Behandl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Gerade Verbindung 4"/>
          <p:cNvSpPr/>
          <p:nvPr/>
        </p:nvSpPr>
        <p:spPr>
          <a:xfrm>
            <a:off x="250920" y="247680"/>
            <a:ext cx="174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Bild 14" descr=""/>
          <p:cNvPicPr/>
          <p:nvPr/>
        </p:nvPicPr>
        <p:blipFill>
          <a:blip r:embed="rId1"/>
          <a:stretch/>
        </p:blipFill>
        <p:spPr>
          <a:xfrm>
            <a:off x="8315280" y="5470560"/>
            <a:ext cx="568440" cy="1127160"/>
          </a:xfrm>
          <a:prstGeom prst="rect">
            <a:avLst/>
          </a:prstGeom>
          <a:ln w="0">
            <a:noFill/>
          </a:ln>
        </p:spPr>
      </p:pic>
      <p:sp>
        <p:nvSpPr>
          <p:cNvPr id="265" name="Rechteck 8"/>
          <p:cNvSpPr/>
          <p:nvPr/>
        </p:nvSpPr>
        <p:spPr>
          <a:xfrm>
            <a:off x="3816360" y="6308640"/>
            <a:ext cx="1512720" cy="2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feld 11">
            <a:hlinkClick r:id="" action="ppaction://hlinkshowjump?jump=firstslide"/>
          </p:cNvPr>
          <p:cNvSpPr/>
          <p:nvPr/>
        </p:nvSpPr>
        <p:spPr>
          <a:xfrm>
            <a:off x="3842280" y="6308640"/>
            <a:ext cx="1461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Zurück zur Übersicht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HIV-Test im örtlichen Gesundheitsam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wort 3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feld 4"/>
          <p:cNvSpPr/>
          <p:nvPr/>
        </p:nvSpPr>
        <p:spPr>
          <a:xfrm>
            <a:off x="250920" y="260280"/>
            <a:ext cx="201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Beratung und Behandl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Gerade Verbindung 5"/>
          <p:cNvSpPr/>
          <p:nvPr/>
        </p:nvSpPr>
        <p:spPr>
          <a:xfrm>
            <a:off x="250920" y="247680"/>
            <a:ext cx="174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Wie und wo kann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man feststellen, ob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man sich mit dem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HI-Virus infiziert hat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0" y="19836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ge 3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feld 3"/>
          <p:cNvSpPr/>
          <p:nvPr/>
        </p:nvSpPr>
        <p:spPr>
          <a:xfrm>
            <a:off x="250920" y="260280"/>
            <a:ext cx="201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Beratung und Behandl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Gerade Verbindung 4"/>
          <p:cNvSpPr/>
          <p:nvPr/>
        </p:nvSpPr>
        <p:spPr>
          <a:xfrm>
            <a:off x="250920" y="247680"/>
            <a:ext cx="174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Bild 14" descr=""/>
          <p:cNvPicPr/>
          <p:nvPr/>
        </p:nvPicPr>
        <p:blipFill>
          <a:blip r:embed="rId1"/>
          <a:stretch/>
        </p:blipFill>
        <p:spPr>
          <a:xfrm>
            <a:off x="8315280" y="5470560"/>
            <a:ext cx="568440" cy="1127160"/>
          </a:xfrm>
          <a:prstGeom prst="rect">
            <a:avLst/>
          </a:prstGeom>
          <a:ln w="0">
            <a:noFill/>
          </a:ln>
        </p:spPr>
      </p:pic>
      <p:sp>
        <p:nvSpPr>
          <p:cNvPr id="276" name="Rechteck 8"/>
          <p:cNvSpPr/>
          <p:nvPr/>
        </p:nvSpPr>
        <p:spPr>
          <a:xfrm>
            <a:off x="3816360" y="6308640"/>
            <a:ext cx="1512720" cy="2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feld 11">
            <a:hlinkClick r:id="" action="ppaction://hlinkshowjump?jump=firstslide"/>
          </p:cNvPr>
          <p:cNvSpPr/>
          <p:nvPr/>
        </p:nvSpPr>
        <p:spPr>
          <a:xfrm>
            <a:off x="3842280" y="6308640"/>
            <a:ext cx="1461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Zurück zur Übersicht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30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Eine sexuell übertragbare Infektion (STI), mit der man bei rechtzeitiger Behandlung lange leben kann, ohne zu erkranke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0" y="2016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wort 4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feld 4"/>
          <p:cNvSpPr/>
          <p:nvPr/>
        </p:nvSpPr>
        <p:spPr>
          <a:xfrm>
            <a:off x="250920" y="260280"/>
            <a:ext cx="201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Beratung und Behandl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Gerade Verbindung 5"/>
          <p:cNvSpPr/>
          <p:nvPr/>
        </p:nvSpPr>
        <p:spPr>
          <a:xfrm>
            <a:off x="250920" y="247680"/>
            <a:ext cx="174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Was ist HIV/AIDS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0" y="18720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ge 4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feld 3"/>
          <p:cNvSpPr/>
          <p:nvPr/>
        </p:nvSpPr>
        <p:spPr>
          <a:xfrm>
            <a:off x="250920" y="260280"/>
            <a:ext cx="201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Beratung und Behandl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Gerade Verbindung 4"/>
          <p:cNvSpPr/>
          <p:nvPr/>
        </p:nvSpPr>
        <p:spPr>
          <a:xfrm>
            <a:off x="250920" y="247680"/>
            <a:ext cx="174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Bild 14" descr=""/>
          <p:cNvPicPr/>
          <p:nvPr/>
        </p:nvPicPr>
        <p:blipFill>
          <a:blip r:embed="rId1"/>
          <a:stretch/>
        </p:blipFill>
        <p:spPr>
          <a:xfrm>
            <a:off x="8315280" y="5470560"/>
            <a:ext cx="568440" cy="1127160"/>
          </a:xfrm>
          <a:prstGeom prst="rect">
            <a:avLst/>
          </a:prstGeom>
          <a:ln w="0">
            <a:noFill/>
          </a:ln>
        </p:spPr>
      </p:pic>
      <p:sp>
        <p:nvSpPr>
          <p:cNvPr id="287" name="Rechteck 8"/>
          <p:cNvSpPr/>
          <p:nvPr/>
        </p:nvSpPr>
        <p:spPr>
          <a:xfrm>
            <a:off x="3816360" y="6308640"/>
            <a:ext cx="1512720" cy="2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feld 11">
            <a:hlinkClick r:id="" action="ppaction://hlinkshowjump?jump=firstslide"/>
          </p:cNvPr>
          <p:cNvSpPr/>
          <p:nvPr/>
        </p:nvSpPr>
        <p:spPr>
          <a:xfrm>
            <a:off x="3842280" y="6308640"/>
            <a:ext cx="1461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Zurück zur Übersicht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Hetero, bi,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schwul, lesbisch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wort 2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feld 4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Liebesleb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Gerade Verbindung 5"/>
          <p:cNvSpPr/>
          <p:nvPr/>
        </p:nvSpPr>
        <p:spPr>
          <a:xfrm>
            <a:off x="250920" y="247680"/>
            <a:ext cx="79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30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2 sexuell übertrag-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bare Infektionen (STI),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die unbehandelt zu Unfruchtbarkeit führen könne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0" y="19368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wort 5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feld 4"/>
          <p:cNvSpPr/>
          <p:nvPr/>
        </p:nvSpPr>
        <p:spPr>
          <a:xfrm>
            <a:off x="250920" y="260280"/>
            <a:ext cx="201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Beratung und Behandl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Gerade Verbindung 5"/>
          <p:cNvSpPr/>
          <p:nvPr/>
        </p:nvSpPr>
        <p:spPr>
          <a:xfrm>
            <a:off x="250920" y="247680"/>
            <a:ext cx="174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Was sind Chlamydien und was ist Gonorrhö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0" y="2016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ge 5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feld 3"/>
          <p:cNvSpPr/>
          <p:nvPr/>
        </p:nvSpPr>
        <p:spPr>
          <a:xfrm>
            <a:off x="250920" y="260280"/>
            <a:ext cx="201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Beratung und Behandl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Gerade Verbindung 4"/>
          <p:cNvSpPr/>
          <p:nvPr/>
        </p:nvSpPr>
        <p:spPr>
          <a:xfrm>
            <a:off x="250920" y="247680"/>
            <a:ext cx="174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Bild 14" descr=""/>
          <p:cNvPicPr/>
          <p:nvPr/>
        </p:nvPicPr>
        <p:blipFill>
          <a:blip r:embed="rId1"/>
          <a:stretch/>
        </p:blipFill>
        <p:spPr>
          <a:xfrm>
            <a:off x="8315280" y="5470560"/>
            <a:ext cx="568440" cy="1127160"/>
          </a:xfrm>
          <a:prstGeom prst="rect">
            <a:avLst/>
          </a:prstGeom>
          <a:ln w="0">
            <a:noFill/>
          </a:ln>
        </p:spPr>
      </p:pic>
      <p:sp>
        <p:nvSpPr>
          <p:cNvPr id="298" name="Rechteck 8"/>
          <p:cNvSpPr/>
          <p:nvPr/>
        </p:nvSpPr>
        <p:spPr>
          <a:xfrm>
            <a:off x="3816360" y="6308640"/>
            <a:ext cx="1512720" cy="2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feld 11">
            <a:hlinkClick r:id="" action="ppaction://hlinkshowjump?jump=firstslide"/>
          </p:cNvPr>
          <p:cNvSpPr/>
          <p:nvPr/>
        </p:nvSpPr>
        <p:spPr>
          <a:xfrm>
            <a:off x="3842280" y="6308640"/>
            <a:ext cx="1461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Zurück zur Übersicht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Was sind sexuelle Orientierungen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ge 2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feld 3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Liebesleb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Gerade Verbindung 4"/>
          <p:cNvSpPr/>
          <p:nvPr/>
        </p:nvSpPr>
        <p:spPr>
          <a:xfrm>
            <a:off x="250920" y="247680"/>
            <a:ext cx="79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ild 14" descr=""/>
          <p:cNvPicPr/>
          <p:nvPr/>
        </p:nvPicPr>
        <p:blipFill>
          <a:blip r:embed="rId1"/>
          <a:stretch/>
        </p:blipFill>
        <p:spPr>
          <a:xfrm>
            <a:off x="8315280" y="5470560"/>
            <a:ext cx="568440" cy="1127160"/>
          </a:xfrm>
          <a:prstGeom prst="rect">
            <a:avLst/>
          </a:prstGeom>
          <a:ln w="0">
            <a:noFill/>
          </a:ln>
        </p:spPr>
      </p:pic>
      <p:sp>
        <p:nvSpPr>
          <p:cNvPr id="100" name="Rechteck 8"/>
          <p:cNvSpPr/>
          <p:nvPr/>
        </p:nvSpPr>
        <p:spPr>
          <a:xfrm>
            <a:off x="3816360" y="6308640"/>
            <a:ext cx="1512720" cy="2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feld 11">
            <a:hlinkClick r:id="" action="ppaction://hlinkshowjump?jump=firstslide"/>
          </p:cNvPr>
          <p:cNvSpPr/>
          <p:nvPr/>
        </p:nvSpPr>
        <p:spPr>
          <a:xfrm>
            <a:off x="3842280" y="6308640"/>
            <a:ext cx="1461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Zurück zur Übersicht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Scham und Peinlichkei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wort 3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feld 4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Liebesleb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Gerade Verbindung 5"/>
          <p:cNvSpPr/>
          <p:nvPr/>
        </p:nvSpPr>
        <p:spPr>
          <a:xfrm>
            <a:off x="250920" y="247680"/>
            <a:ext cx="79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Was fühlen einige, die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sich mit einer sexuell übertragbaren Infektion (STI) angesteckt haben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2016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ge 3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feld 3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Liebesleb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Gerade Verbindung 4"/>
          <p:cNvSpPr/>
          <p:nvPr/>
        </p:nvSpPr>
        <p:spPr>
          <a:xfrm>
            <a:off x="250920" y="247680"/>
            <a:ext cx="79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ild 14" descr=""/>
          <p:cNvPicPr/>
          <p:nvPr/>
        </p:nvPicPr>
        <p:blipFill>
          <a:blip r:embed="rId1"/>
          <a:stretch/>
        </p:blipFill>
        <p:spPr>
          <a:xfrm>
            <a:off x="8315280" y="5470560"/>
            <a:ext cx="568440" cy="1127160"/>
          </a:xfrm>
          <a:prstGeom prst="rect">
            <a:avLst/>
          </a:prstGeom>
          <a:ln w="0">
            <a:noFill/>
          </a:ln>
        </p:spPr>
      </p:pic>
      <p:sp>
        <p:nvSpPr>
          <p:cNvPr id="111" name="Rechteck 8"/>
          <p:cNvSpPr/>
          <p:nvPr/>
        </p:nvSpPr>
        <p:spPr>
          <a:xfrm>
            <a:off x="3816360" y="6308640"/>
            <a:ext cx="1512720" cy="2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feld 11">
            <a:hlinkClick r:id="" action="ppaction://hlinkshowjump?jump=firstslide"/>
          </p:cNvPr>
          <p:cNvSpPr/>
          <p:nvPr/>
        </p:nvSpPr>
        <p:spPr>
          <a:xfrm>
            <a:off x="3842280" y="6308640"/>
            <a:ext cx="1461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Zurück zur Übersicht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Vor dem Sex auf sexuell übertragbare Infektionen (STI) testen lasse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wort 4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feld 4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Liebesleb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Gerade Verbindung 5"/>
          <p:cNvSpPr/>
          <p:nvPr/>
        </p:nvSpPr>
        <p:spPr>
          <a:xfrm>
            <a:off x="250920" y="247680"/>
            <a:ext cx="79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7664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Was können wir tun, </a:t>
            </a:r>
            <a:br>
              <a:rPr sz="4000"/>
            </a:br>
            <a:r>
              <a:rPr b="0" lang="de-DE" sz="4000" spc="-1" strike="noStrike">
                <a:solidFill>
                  <a:srgbClr val="ff0000"/>
                </a:solidFill>
                <a:latin typeface="Arial Black"/>
              </a:rPr>
              <a:t>wenn wir in einer festen Partnerschaft auf Kondome verzichten wollen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189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ge 400 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feld 3"/>
          <p:cNvSpPr/>
          <p:nvPr/>
        </p:nvSpPr>
        <p:spPr>
          <a:xfrm>
            <a:off x="250920" y="260280"/>
            <a:ext cx="100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Arial"/>
              </a:rPr>
              <a:t>Liebesleb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Gerade Verbindung 4"/>
          <p:cNvSpPr/>
          <p:nvPr/>
        </p:nvSpPr>
        <p:spPr>
          <a:xfrm>
            <a:off x="250920" y="247680"/>
            <a:ext cx="79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ild 14" descr=""/>
          <p:cNvPicPr/>
          <p:nvPr/>
        </p:nvPicPr>
        <p:blipFill>
          <a:blip r:embed="rId1"/>
          <a:stretch/>
        </p:blipFill>
        <p:spPr>
          <a:xfrm>
            <a:off x="8315280" y="5470560"/>
            <a:ext cx="568440" cy="1127160"/>
          </a:xfrm>
          <a:prstGeom prst="rect">
            <a:avLst/>
          </a:prstGeom>
          <a:ln w="0">
            <a:noFill/>
          </a:ln>
        </p:spPr>
      </p:pic>
      <p:sp>
        <p:nvSpPr>
          <p:cNvPr id="122" name="Rechteck 8"/>
          <p:cNvSpPr/>
          <p:nvPr/>
        </p:nvSpPr>
        <p:spPr>
          <a:xfrm>
            <a:off x="3816360" y="6308640"/>
            <a:ext cx="1512720" cy="2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feld 11">
            <a:hlinkClick r:id="" action="ppaction://hlinkshowjump?jump=firstslide"/>
          </p:cNvPr>
          <p:cNvSpPr/>
          <p:nvPr/>
        </p:nvSpPr>
        <p:spPr>
          <a:xfrm>
            <a:off x="3842280" y="6308640"/>
            <a:ext cx="14612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Zurück zur Übersicht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MS 12</cp:lastModifiedBy>
  <dcterms:modified xsi:type="dcterms:W3CDTF">2017-05-17T14:06:37Z</dcterms:modified>
  <cp:revision>175</cp:revision>
  <dc:subject/>
  <dc:title>No Slide Title</dc:title>
</cp:coreProperties>
</file>