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0D2FEC-279E-42A1-97E4-5FED7E25A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Num" idx="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746097-5004-428C-9AB7-C7EA39CC00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Num" idx="1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9B2B81-4EA1-4CE0-B041-DFFC9413E2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Num" idx="1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B441CC-135E-44B1-AF55-60CDCD77C5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1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682A36-09AA-4855-99C2-3055128186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Num" idx="1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4E9D85-6DB0-4BBB-85DC-5C5DBD3878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Num" idx="2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70C501-42EF-402D-B649-E375D6DE9D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Num" idx="2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B51CB7-DCEF-4855-96BA-0BB7CD182D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Num" idx="2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506FB8-A8DC-4AA0-98D2-F19879FB68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Num" idx="2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A62C42-7034-4385-97F5-F2B4FD1C75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Num" idx="2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2DCD54-1181-4B35-901A-7000CB8CCE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Num" idx="2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0AC7F6-7D7A-434D-905B-EE7D33C1CF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Num" idx="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871D57-19CE-4316-BABA-A33D28056C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Num" idx="2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78ECE4-BB6A-4D89-B95F-C7B551CC64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Num" idx="2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E9A469-575E-4514-B518-18D3EC8C52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Num" idx="2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538D51-D654-4146-BDE8-ADEF9D1A03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Num" idx="2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C5CB24-3DC9-4838-8459-2E22672DEB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Num" idx="3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70E3B8-175A-4796-B865-49088CEB17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Num" idx="3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07FF09-56CD-41CC-A844-9B503A825C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Num" idx="3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7BB28F-B4D6-4420-B304-19076BE07F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3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55E802-4E7D-4AAA-9142-008DC771AB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Num" idx="3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97ED49-C80E-4CD2-94A7-C113F1B976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Num" idx="3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70D927-9951-4451-8CD5-8EE4A41B7B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3708C1-649D-4934-B52F-CC824D7DCD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Num" idx="3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DB37F6-96C5-4D0A-B310-33FE7FE238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Num" idx="3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288CEF-63B7-4B74-980C-5F5B828F07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Num" idx="3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8BD905-4441-423F-A91D-30C6060FA2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Num" idx="3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1C46A9-E6C2-4A3E-B150-7B11CF95AB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Num" idx="4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5C8945-98AE-456C-A61D-D1B4B1ECDF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Num" idx="4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886E48-996B-4F03-9ED9-8A12FDF4C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Num" idx="4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F5FAAB-3101-49B3-B529-E6F524DEC0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Num" idx="4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F643FF-A619-4BD4-8E71-B0A4135DC7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Num" idx="4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B6C873-389D-4839-BBFF-70CBB74AC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Num" idx="4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EDCF87-5279-4DA4-899B-DA6841B02C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Num" idx="1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4E4E95-F1A6-4B3B-85E2-EC2938FBD1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Num" idx="4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8ED46D-3A49-4B24-B96D-43A54D3D5E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Num" idx="4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19084C-F0DC-4577-B30A-9904619646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Num" idx="4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44F07F-692E-4589-8731-B3FD8DA8E5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Num" idx="4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8EAFD8-57E6-41B0-82B2-381FCF516C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Num" idx="5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88B73D-4E5A-46B0-A858-7AF37295CD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Num" idx="5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821FCF-89F4-4DC2-8F9B-3E1B248EA6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Num" idx="5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A9544B-901F-47E8-AD92-3B48B7E4BF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Num" idx="5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17C2A4-90EC-489F-8A2F-DA64AFBA7B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Num" idx="1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312CB8-2E71-4980-9704-AC9E6164E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Num" idx="1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000164-CBAE-4CD7-AE2B-8C097BF528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Num" idx="1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18C50F-DD56-48E2-9060-7E9CD0CD57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Num" idx="1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5BC62B-016F-4D37-BBB3-493FEB8632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Num" idx="1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FBF31B-B42A-4CE8-9594-9BC833A305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E8B-0543-44E7-8881-9FAAC31A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965520"/>
            <a:ext cx="6857640" cy="2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ACF-FA76-4EA5-8FE1-7D9911A3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65520"/>
            <a:ext cx="6857640" cy="2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5C5-8DB1-4790-BE16-0410F697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965520"/>
            <a:ext cx="6857640" cy="2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14E-5413-4C61-8275-A47938F9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965520"/>
            <a:ext cx="6857640" cy="2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F75-7837-444E-87FD-9A5C087D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965520"/>
            <a:ext cx="6857640" cy="2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0A4-3AA3-4E1B-B0D4-93BD58BB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965520"/>
            <a:ext cx="6857640" cy="2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83C-D8DF-4D1F-88F6-F2BC2B83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965520"/>
            <a:ext cx="6857640" cy="2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A53-DA8F-4B8B-8331-381984A4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A9C-22C7-4308-BE32-FC01F416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965520"/>
            <a:ext cx="6857640" cy="2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58F-B9E2-4BA0-958B-7AB7404C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965520"/>
            <a:ext cx="6857640" cy="2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B6F-1E9C-4731-8BED-4B1CA67F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965520"/>
            <a:ext cx="6857640" cy="2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4D6-EA01-4704-9BCA-D23FB57C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de-DE" sz="45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Mastertitelformat bearbeite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1DA43C-7BB4-4A22-978F-876847F8A55A}" type="slidenum">
              <a:rPr b="0" lang="en-US" sz="9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846560" cy="223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</a:pPr>
            <a:r>
              <a:rPr b="1" lang="de-DE" sz="5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Quizshow:</a:t>
            </a:r>
            <a:br>
              <a:rPr sz="5000"/>
            </a:br>
            <a:r>
              <a:rPr b="1" lang="de-DE" sz="5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ie richtige Antwort</a:t>
            </a:r>
            <a:br>
              <a:rPr sz="32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49360"/>
            <a:ext cx="9143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</a:pPr>
            <a:endParaRPr b="0" lang="de-DE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pic>
        <p:nvPicPr>
          <p:cNvPr id="49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080" cy="112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84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o kann man sich auf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STI testen lass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In Apoth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Bei einer Ärztin oder einem Ar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Im Kranken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Zu H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88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o kann man sich auf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STI testen lass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eck 7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In Apoth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Bei einer Ärztin oder einem Ar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Im Kranken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Zu H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92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ogegen kann ich mich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impfen lass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Gonorrhö (Trip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yphi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HPV und Hepatitis A u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Chlamyd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96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ogegen kann ich mich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impfen lass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eck 7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Gonorrhö (Trip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yphi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HPV und Hepatitis A u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Chlamyd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00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Darf man während einer STI-Behandlung Sex hab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Ja, wenn man vorsichtig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Nein, man sollte darauf verzi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Ja, die Medikamente wirken ja so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Ja, wenn der andere nicht infiziert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04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Darf man während einer STI-Behandlung Sex hab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eck 7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Ja, wenn man vorsichtig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Nein, man sollte darauf verzi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Ja, die Medikamente wirken ja so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Ja, wenn der andere nicht infiziert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08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passiert, wenn STI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nicht behandelt we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hteck 6"/>
          <p:cNvSpPr/>
          <p:nvPr/>
        </p:nvSpPr>
        <p:spPr>
          <a:xfrm>
            <a:off x="689040" y="2997360"/>
            <a:ext cx="78433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Nicht v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Hängt von der STI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Man bekommt Besuch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vom Gesundheitsa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Nic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12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passiert, wenn STI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nicht behandelt we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hteck 7"/>
          <p:cNvSpPr/>
          <p:nvPr/>
        </p:nvSpPr>
        <p:spPr>
          <a:xfrm>
            <a:off x="689040" y="2997360"/>
            <a:ext cx="78433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Nicht v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Hängt von der STI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Man bekommt Besuch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vom Gesundheitsa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Nic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feld 5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Gerade Verbindung 6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16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nn kann ein Mädchen schwanger we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hteck 10"/>
          <p:cNvSpPr/>
          <p:nvPr/>
        </p:nvSpPr>
        <p:spPr>
          <a:xfrm>
            <a:off x="689040" y="2997360"/>
            <a:ext cx="78433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b 11 bis 13 J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enn ihre Brüste anfangen zu wach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b ihrem ersten Eisprung,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kurz vor der ersten Regelblu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b der zweiten Monatsblu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20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nn kann ein Mädchen schwanger we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eck 7"/>
          <p:cNvSpPr/>
          <p:nvPr/>
        </p:nvSpPr>
        <p:spPr>
          <a:xfrm>
            <a:off x="689040" y="2997360"/>
            <a:ext cx="78433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b 11 bis 13 J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enn ihre Brüste anfangen zu wach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Ab ihrem ersten Eisprung, </a:t>
            </a:r>
            <a:br>
              <a:rPr sz="2400"/>
            </a:b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kurz vor der ersten Regelblu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b der zweiten Monatsblu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52" name="Rechteck 5"/>
          <p:cNvSpPr/>
          <p:nvPr/>
        </p:nvSpPr>
        <p:spPr>
          <a:xfrm>
            <a:off x="689040" y="2997360"/>
            <a:ext cx="6330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exuell übertragbare Inje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exuell übertragbare Infe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tark transpirierende Individu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cher traditionelle Imp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685800" y="1557360"/>
            <a:ext cx="7772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bedeutet S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24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macht man mit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einem Kondom nic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In die Scheide einfü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Über den steifen Penis ab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ch vor einer Schwangerschaft schü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ch vor einer STI schü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28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macht man mit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einem Kondom nic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eck 7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In die Scheide einfü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Über den steifen Penis ab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ch vor einer Schwangerschaft schü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ch vor einer STI schü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32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Auf was sollte man bei der Auswahl des Kondoms ach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uf die passende Kondomgröße und -br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uf den Ger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uf den Pr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uf die No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36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Auf was sollte man bei der Auswahl des Kondoms ach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7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Auf die passende Kondomgröße und -br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uf den Ger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uf den Pr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uf die No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40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Seit wann gibt es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die Pille für den Man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eit 4 J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eit 2 J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eit letztem Mo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ie gibt es gar n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44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Seit wann gibt es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die Pille für den Man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eck 7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eit 4 J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eit 2 J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eit letztem Mo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Die gibt es gar n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48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orauf sollte man bei der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Pille danach ach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hteck 6"/>
          <p:cNvSpPr/>
          <p:nvPr/>
        </p:nvSpPr>
        <p:spPr>
          <a:xfrm>
            <a:off x="689040" y="2997360"/>
            <a:ext cx="784332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Vor dem Sex 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e so schnell wie möglich nehmen,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m besten innerhalb von 12 Stunde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nach dem ungeschützten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e zu Beginn der nächsten Regel 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Gleich zum Sex ein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52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orauf sollte man bei der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Pille danach ach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eck 7"/>
          <p:cNvSpPr/>
          <p:nvPr/>
        </p:nvSpPr>
        <p:spPr>
          <a:xfrm>
            <a:off x="689040" y="2997360"/>
            <a:ext cx="784332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Vor dem Sex 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Sie so schnell wie möglich nehmen, </a:t>
            </a:r>
            <a:br>
              <a:rPr sz="2400"/>
            </a:b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am besten innerhalb von 12 Stunden </a:t>
            </a:r>
            <a:br>
              <a:rPr sz="2400"/>
            </a:b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nach dem ungeschützten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e zu Beginn der nächsten Regel 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Gleich zum Sex ein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56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elches Verhütungsmittel schützt am besten vor S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iaphra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Ko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ille dan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60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elches Verhütungsmittel schützt am besten vor S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hteck 7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iaphra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Ko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ille dan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56" name="Rechteck 6"/>
          <p:cNvSpPr/>
          <p:nvPr/>
        </p:nvSpPr>
        <p:spPr>
          <a:xfrm>
            <a:off x="689040" y="2997360"/>
            <a:ext cx="6330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exuell übertragbare Inje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Sexuell übertragbare Infe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tark transpirierende Individu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cher traditionelle Imp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685800" y="1557360"/>
            <a:ext cx="7772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bedeutet S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64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ie kann ich mich vor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einer STI schütz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ch vor dem Sex desinfiz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ch nach dem Sex desinfiz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ausziehen, bevor es ko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urch Kondome beim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ondom, Verhütung und Schwangerscha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Gerade Verbindung 4"/>
          <p:cNvCxnSpPr/>
          <p:nvPr/>
        </p:nvCxnSpPr>
        <p:spPr>
          <a:xfrm>
            <a:off x="250560" y="247320"/>
            <a:ext cx="284364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68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ie kann ich mich vor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einer STI schütz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ch vor dem Sex desinfiz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ich nach dem Sex desinfiz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ausziehen, bevor es ko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Durch Kondome beim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Über Sex re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Gerade Verbindung 4"/>
          <p:cNvCxnSpPr/>
          <p:nvPr/>
        </p:nvCxnSpPr>
        <p:spPr>
          <a:xfrm>
            <a:off x="250560" y="247320"/>
            <a:ext cx="100836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72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versteht man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unter Lie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hteck 7"/>
          <p:cNvSpPr/>
          <p:nvPr/>
        </p:nvSpPr>
        <p:spPr>
          <a:xfrm>
            <a:off x="689040" y="2997360"/>
            <a:ext cx="784332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Mit dem besten Freund oder der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besten Freundin zusammen zu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n Jungen bzw. ein Mädche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besonders gern zu h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Verehrung eines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Total verliebt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Über Sex re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Gerade Verbindung 4"/>
          <p:cNvCxnSpPr/>
          <p:nvPr/>
        </p:nvCxnSpPr>
        <p:spPr>
          <a:xfrm>
            <a:off x="250560" y="247320"/>
            <a:ext cx="100836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76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versteht man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unter Lie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6"/>
          <p:cNvSpPr/>
          <p:nvPr/>
        </p:nvSpPr>
        <p:spPr>
          <a:xfrm>
            <a:off x="689040" y="2997360"/>
            <a:ext cx="784332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Mit dem besten Freund oder der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besten Freundin zusammen zu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Einen Jungen bzw. ein Mädchen </a:t>
            </a:r>
            <a:br>
              <a:rPr sz="2400"/>
            </a:b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besonders gern zu h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Verehrung eines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Total verliebt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Über Sex re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Gerade Verbindung 4"/>
          <p:cNvCxnSpPr/>
          <p:nvPr/>
        </p:nvCxnSpPr>
        <p:spPr>
          <a:xfrm>
            <a:off x="250560" y="247320"/>
            <a:ext cx="100836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80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ist Sex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hteck 6"/>
          <p:cNvSpPr/>
          <p:nvPr/>
        </p:nvSpPr>
        <p:spPr>
          <a:xfrm>
            <a:off x="689040" y="2997360"/>
            <a:ext cx="78433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Sexfi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exuelle Nachrichten, die über Smart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hones oder im Internet vers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Oral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 Chat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Über Sex re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Gerade Verbindung 4"/>
          <p:cNvCxnSpPr/>
          <p:nvPr/>
        </p:nvCxnSpPr>
        <p:spPr>
          <a:xfrm>
            <a:off x="250560" y="247320"/>
            <a:ext cx="100836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84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ist Sex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6"/>
          <p:cNvSpPr/>
          <p:nvPr/>
        </p:nvSpPr>
        <p:spPr>
          <a:xfrm>
            <a:off x="689040" y="2997360"/>
            <a:ext cx="78433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Sexfi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Sexuelle Nachrichten, die über Smart-</a:t>
            </a:r>
            <a:br>
              <a:rPr sz="2400"/>
            </a:b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phones oder im Internet vers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Oral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 Chat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Über Sex re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Gerade Verbindung 4"/>
          <p:cNvCxnSpPr/>
          <p:nvPr/>
        </p:nvCxnSpPr>
        <p:spPr>
          <a:xfrm>
            <a:off x="250560" y="247320"/>
            <a:ext cx="100836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88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Ab wann dürfen Jugendliche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in Deutschland Sex hab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b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b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b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b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Über Sex re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Gerade Verbindung 4"/>
          <p:cNvCxnSpPr/>
          <p:nvPr/>
        </p:nvCxnSpPr>
        <p:spPr>
          <a:xfrm>
            <a:off x="250560" y="247320"/>
            <a:ext cx="100836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92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Ab wann dürfen Jugendliche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in Deutschland Sex hab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hteck 7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Ab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b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b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b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Über Sex re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4"/>
          <p:cNvCxnSpPr/>
          <p:nvPr/>
        </p:nvCxnSpPr>
        <p:spPr>
          <a:xfrm>
            <a:off x="250560" y="247320"/>
            <a:ext cx="100836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196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ie lange dauert Se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o lange, wie vorher abgespro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o lange, wie beide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Max. eine Stu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Bis einer fertig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Über Sex re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4"/>
          <p:cNvCxnSpPr/>
          <p:nvPr/>
        </p:nvCxnSpPr>
        <p:spPr>
          <a:xfrm>
            <a:off x="250560" y="247320"/>
            <a:ext cx="100836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200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ie lange dauert Se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7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o lange, wie vorher abgespro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So lange, wie beide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Max. eine Stu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Bis einer fertig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040" cy="107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sind Symptome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einer ST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61" name="Rechteck 1"/>
          <p:cNvSpPr/>
          <p:nvPr/>
        </p:nvSpPr>
        <p:spPr>
          <a:xfrm>
            <a:off x="689040" y="2997360"/>
            <a:ext cx="6330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urch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usfl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chwin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Vergess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xuelle Vielfa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Gerade Verbindung 4"/>
          <p:cNvCxnSpPr/>
          <p:nvPr/>
        </p:nvCxnSpPr>
        <p:spPr>
          <a:xfrm>
            <a:off x="250560" y="247320"/>
            <a:ext cx="106236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204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ist Homosexualitä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eck 9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 nicht normales Ver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gleichgeschlechtliche Lebe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außergewöhnliche Sexualprak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Variante von Bisexual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xuelle Vielfa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Gerade Verbindung 4"/>
          <p:cNvCxnSpPr/>
          <p:nvPr/>
        </p:nvCxnSpPr>
        <p:spPr>
          <a:xfrm>
            <a:off x="250560" y="247320"/>
            <a:ext cx="106236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208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ist Homosexualitä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hteck 7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 nicht normales Ver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Eine gleichgeschlechtliche Lebe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außergewöhnliche Sexualprak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Variante von Bisexual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xuelle Vielfa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Gerade Verbindung 4"/>
          <p:cNvCxnSpPr/>
          <p:nvPr/>
        </p:nvCxnSpPr>
        <p:spPr>
          <a:xfrm>
            <a:off x="250560" y="247320"/>
            <a:ext cx="106236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212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ist Trans*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Abkürzung für ungesunde Transf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Abkürzung für Transves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Abkürzung für Trans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Abkürzung für Transis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xuelle Vielfa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Gerade Verbindung 4"/>
          <p:cNvCxnSpPr/>
          <p:nvPr/>
        </p:nvCxnSpPr>
        <p:spPr>
          <a:xfrm>
            <a:off x="250560" y="247320"/>
            <a:ext cx="106236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216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ist Trans*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Abkürzung für ungesunde Transf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Abkürzung für Transves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Eine Abkürzung für Trans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Abkürzung für Transis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feld 5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örper und Ausseh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Gerade Verbindung 6"/>
          <p:cNvCxnSpPr/>
          <p:nvPr/>
        </p:nvCxnSpPr>
        <p:spPr>
          <a:xfrm>
            <a:off x="250560" y="247320"/>
            <a:ext cx="144180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220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ist eine Klitor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eck 9"/>
          <p:cNvSpPr/>
          <p:nvPr/>
        </p:nvSpPr>
        <p:spPr>
          <a:xfrm>
            <a:off x="689040" y="2997360"/>
            <a:ext cx="78433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 Punkt in der Scheide der 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er weibliche P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as am leichtesten erregbare weibliche Geschlechts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 millimetergroßer Kn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feld 5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örper und Ausseh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Gerade Verbindung 6"/>
          <p:cNvCxnSpPr/>
          <p:nvPr/>
        </p:nvCxnSpPr>
        <p:spPr>
          <a:xfrm>
            <a:off x="250560" y="247320"/>
            <a:ext cx="144180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224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ist eine Klitor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hteck 9"/>
          <p:cNvSpPr/>
          <p:nvPr/>
        </p:nvSpPr>
        <p:spPr>
          <a:xfrm>
            <a:off x="689040" y="2997360"/>
            <a:ext cx="78433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 Punkt in der Scheide der 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er weibliche P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Das am leichtesten erregbare weibliche Geschlechts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 millimetergroßer Kn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örper und Ausseh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Gerade Verbindung 4"/>
          <p:cNvCxnSpPr/>
          <p:nvPr/>
        </p:nvCxnSpPr>
        <p:spPr>
          <a:xfrm>
            <a:off x="250560" y="247320"/>
            <a:ext cx="144180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228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o liegt das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Jungfernhäutc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9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uf der Klit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Im Scheideneingang einer 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In der Gebärm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In der V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feld 3"/>
          <p:cNvSpPr/>
          <p:nvPr/>
        </p:nvSpPr>
        <p:spPr>
          <a:xfrm>
            <a:off x="250920" y="306360"/>
            <a:ext cx="36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Körper und Ausseh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Gerade Verbindung 4"/>
          <p:cNvCxnSpPr/>
          <p:nvPr/>
        </p:nvCxnSpPr>
        <p:spPr>
          <a:xfrm>
            <a:off x="250560" y="247320"/>
            <a:ext cx="144180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232" name="Rectangle 2"/>
          <p:cNvSpPr/>
          <p:nvPr/>
        </p:nvSpPr>
        <p:spPr>
          <a:xfrm>
            <a:off x="685800" y="1557360"/>
            <a:ext cx="827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o liegt das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Jungfernhäutc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hteck 6"/>
          <p:cNvSpPr/>
          <p:nvPr/>
        </p:nvSpPr>
        <p:spPr>
          <a:xfrm>
            <a:off x="689040" y="2997360"/>
            <a:ext cx="78433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uf der Klit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Im Scheideneingang einer 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In der Gebärm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In der V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040" cy="107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sind Symptome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einer ST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hteck 7"/>
          <p:cNvSpPr/>
          <p:nvPr/>
        </p:nvSpPr>
        <p:spPr>
          <a:xfrm>
            <a:off x="689040" y="2997360"/>
            <a:ext cx="6330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urch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Ausfl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chwin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Vergess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Gerade Verbindung 9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68" name="Rectangle 2"/>
          <p:cNvSpPr/>
          <p:nvPr/>
        </p:nvSpPr>
        <p:spPr>
          <a:xfrm>
            <a:off x="685800" y="1557360"/>
            <a:ext cx="7772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ie kann ich mich mit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HIV infizier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eck 8"/>
          <p:cNvSpPr/>
          <p:nvPr/>
        </p:nvSpPr>
        <p:spPr>
          <a:xfrm>
            <a:off x="689040" y="2997360"/>
            <a:ext cx="63306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urch Händeschüt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urch Benutzung von Essgeschirr oder WC eines HIV-Infizie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urch Sex ohne Ko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urch Kü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72" name="Rectangle 2"/>
          <p:cNvSpPr/>
          <p:nvPr/>
        </p:nvSpPr>
        <p:spPr>
          <a:xfrm>
            <a:off x="685800" y="1557360"/>
            <a:ext cx="7772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ie kann ich mich mit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HIV infizier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eck 7"/>
          <p:cNvSpPr/>
          <p:nvPr/>
        </p:nvSpPr>
        <p:spPr>
          <a:xfrm>
            <a:off x="689040" y="2997360"/>
            <a:ext cx="63306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urch Händeschüt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urch Benutzung von Essgeschirr oder WC eines HIV-Infizie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Durch Sex ohne Ko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urch Kü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76" name="Rectangle 2"/>
          <p:cNvSpPr/>
          <p:nvPr/>
        </p:nvSpPr>
        <p:spPr>
          <a:xfrm>
            <a:off x="685800" y="1557360"/>
            <a:ext cx="7772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ist ein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Gesundheitsam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hteck 9"/>
          <p:cNvSpPr/>
          <p:nvPr/>
        </p:nvSpPr>
        <p:spPr>
          <a:xfrm>
            <a:off x="689040" y="2997360"/>
            <a:ext cx="78433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Behörde, in der nur gesunde Angestellte arbeiten dür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Beratungsstelle für Frage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er Gesund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ie Verwaltung des Vereins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„Gesundes Leb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Kontrollstelle für gesundes L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feld 3"/>
          <p:cNvSpPr/>
          <p:nvPr/>
        </p:nvSpPr>
        <p:spPr>
          <a:xfrm>
            <a:off x="250920" y="306360"/>
            <a:ext cx="1007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V und 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Gerade Verbindung 4"/>
          <p:cNvCxnSpPr/>
          <p:nvPr/>
        </p:nvCxnSpPr>
        <p:spPr>
          <a:xfrm>
            <a:off x="250560" y="247320"/>
            <a:ext cx="792720" cy="360"/>
          </a:xfrm>
          <a:prstGeom prst="straightConnector1">
            <a:avLst/>
          </a:prstGeom>
          <a:ln w="25400">
            <a:solidFill>
              <a:srgbClr val="ff0000"/>
            </a:solidFill>
          </a:ln>
        </p:spPr>
      </p:cxnSp>
      <p:sp>
        <p:nvSpPr>
          <p:cNvPr id="80" name="Rectangle 2"/>
          <p:cNvSpPr/>
          <p:nvPr/>
        </p:nvSpPr>
        <p:spPr>
          <a:xfrm>
            <a:off x="685800" y="1557360"/>
            <a:ext cx="7772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Was ist ein 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Gesundheitsam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689040" y="2997360"/>
            <a:ext cx="78433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Behörde, in der nur gesunde Angestellte arbeiten dür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Eine Beratungsstelle für Fragen </a:t>
            </a:r>
            <a:br>
              <a:rPr sz="2400"/>
            </a:b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der Gesund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ie Verwaltung des Vereins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„Gesundes Leb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74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Eine Kontrollstelle für gesundes L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-Design">
  <a:themeElements>
    <a:clrScheme name="Benutzerdefiniert 8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fffff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fffff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073</Words>
  <Paragraphs>324</Paragraphs>
  <Company>Grant County School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Oliver Schwenner</cp:lastModifiedBy>
  <dcterms:modified xsi:type="dcterms:W3CDTF">2017-05-29T07:36:49Z</dcterms:modified>
  <cp:revision>16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7</vt:r8>
  </property>
  <property fmtid="{D5CDD505-2E9C-101B-9397-08002B2CF9AE}" pid="3" name="PresentationFormat">
    <vt:lpwstr>Bildschirmpräsentation (4:3)</vt:lpwstr>
  </property>
  <property fmtid="{D5CDD505-2E9C-101B-9397-08002B2CF9AE}" pid="4" name="Slides">
    <vt:r8>47</vt:r8>
  </property>
</Properties>
</file>